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060-5706-4C88-96BE-D6826EC0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85E9-413A-4B44-8067-1069F452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37F-103D-4910-AD2E-3FFE44F7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D0C2-C4FB-4FCC-A36B-79DF8D6F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2FF8-0CCE-4F08-92AD-E89F37E0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F563-FF4C-41AC-8C81-8BAD41B4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A713-C79A-495F-AC9B-6AFB43C1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A8CD-5505-41E0-8D4F-BAE9AA6B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79B9-3843-4A70-9599-9603ADE7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BED5-6A9A-449C-B215-A631D42A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8EC0-1CB2-4382-8551-56D0102D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92EB-D864-4114-9ED7-526281D3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FA23-8333-41F8-A916-4CE23360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DDF8-128C-4922-9420-8FF4990E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86D8-FDE5-4859-8551-FD470F3E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E476-3488-4758-9476-6C081FDE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B5D8-3E94-4B7A-B508-840E58C6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6D67-6F3A-4D6E-ABA2-7BCA72E8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5A1A-BED0-428D-A6EC-760C3976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0BED-AB49-4892-8315-6CB7DA14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5CC-FA32-4838-B92D-7AED32DE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3277-F52B-4E10-8425-0F9F7E3B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37E7-E29F-4E11-9FF3-BB54C55D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4A5D-E15E-408E-97E6-77511B31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1877-6E13-46F1-85E9-47F5CD3BB90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5E24-B6BA-40F7-8690-E580AE83924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1371600"/>
            <a:ext cx="87631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ИТОГИ МОНИТОРИНГ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СОСТОЯНИЯ МАЛОГО ПРЕДПРИНИМАТЕЛЬСТВА И БИЗНЕС-КЛИМАТ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В СЕВЕРО-ЗАПАДНОМ ФЕДЕРАЛЬНОМ ОКРУГ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(В РАМКАХ РЕАЛИЗАЦИИ ПРОЕКТ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ПРИ ПОДДЕРЖКЕ ФОНДА ЕВРАЗИЯ)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80" y="6583320"/>
            <a:ext cx="28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МЦСЭИ «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ahoma"/>
              </a:rPr>
              <a:t>Леонтьевский центр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езультаты оцен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состояния МП в СЗФО по объективным показателя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6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95360" y="15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752480"/>
          <a:ext cx="8458200" cy="449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4582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езультаты оцен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состояния МП в СЗФО по объективным показателя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6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1460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3520" y="1905120"/>
          <a:ext cx="815328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81532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езультаты оцен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состояния МП в СЗФО по объективным показателя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6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716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3520" y="1828800"/>
          <a:ext cx="807696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076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14300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езультаты оцен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состояния МП в СЗФО по объективным показателя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6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716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1905120"/>
          <a:ext cx="8534160" cy="46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8534160" cy="46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езультаты оцен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состояния МП в СЗФО по объективным показателя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6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8596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1762200"/>
          <a:ext cx="7848720" cy="471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62200"/>
                    <a:ext cx="784872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езультаты оцен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состояния МП в СЗФО по объективным показателя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5728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80880" y="1828800"/>
          <a:ext cx="830592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059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езультаты оцен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состояния МП в СЗФО по объективным показателя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6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1936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1828800"/>
          <a:ext cx="784872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8487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ценка состояния дел на предприяти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предпринимателями бизнес-климата в СЗФО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6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1936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8588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80880" y="1752480"/>
          <a:ext cx="838224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83822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ценка состояния дел на предприяти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предпринимателями бизнес-климата в СЗФО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6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1936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8588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9072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04920" y="1752480"/>
          <a:ext cx="845820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84582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ценка факторов хозяйственного климат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предпринимателями бизнес-климата в СЗФО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86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1936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8588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0028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0016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0028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04920" y="1752480"/>
          <a:ext cx="853416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85341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Методика оцен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828800"/>
            <a:ext cx="8305920" cy="49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ервая группа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Показатели уровня развития МП в регион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число МП на 1 тыс. наличного населения регио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тношение выпуска товаров и услуг МП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РП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удельный вес занятых на МП и индивидуальных предпринимателей в численности экономически активного населения регио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тношение средней заработной платы работников МП и средней заработной платы работающих в экономике регион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удельный вес прибыльных МП в общем числе действующих малых предприяти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состояния МП в СЗФО по объективным показателя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ценка факторов хозяйственного клима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предпринимателями бизнес-климата в СЗФО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6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1936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8588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57440" y="13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04960" y="18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04920" y="1905120"/>
          <a:ext cx="838188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83818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ценка факторов хозяйственного клима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предпринимателями бизнес-климата в СЗФО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6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1936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8588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71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0496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1752480"/>
          <a:ext cx="838224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83822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ценка факторов хозяйственного клима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предпринимателями бизнес-климата в СЗФО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86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1936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8588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880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0496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1752480"/>
          <a:ext cx="82296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229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ценка факторов хозяйственного клима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1828800"/>
            <a:ext cx="8763120" cy="60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кторы, оказывающие наиболее отрицательное влияние на развитие бизнес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Уровень налогообложения и налоговая систем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Уровень производственных затрат в регионе (уровень цен на энергию, топливо, услуги инфраструктуры, транспорта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Деятельность контролирующих и инспектирующих органов (налоговая инспекция, СЭС, пожарный надзор и д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Коррупция и взяточничество чиновник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Уровень арендных ставок на производственные и офисные помещ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ормативно-правовое и административное регулирование малого бизнеса (процедуры регистрации, лицензирования, сертификации и проч,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предпринимателями бизнес-климата в СЗФО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ценка факторов хозяйственного клима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828800"/>
            <a:ext cx="8763120" cy="40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рганы государственной власти, работа которых наиболее отрицательно сказывается на делах фирмы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логовая поли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нергонадзо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жарный надзо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или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Э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предпринимателями бизнес-климата в СЗФО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заимодействие с органами господдерж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предпринимателями бизнес-климата в СЗФО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6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1936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8588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1464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28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04920" y="1752480"/>
          <a:ext cx="845820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84582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заимодействие с органами господдерж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предпринимателями бизнес-климата в СЗФО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6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1936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8588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7156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нение предпринимате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28600" y="2438280"/>
          <a:ext cx="86104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861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заимодействие с органами господдерж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предпринимателями бизнес-климата в СЗФО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86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1936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8588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7156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нение представителей Администрац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28880" y="19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80880" y="2362320"/>
          <a:ext cx="845820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4582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заимодействие с органами господдерж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предпринимателями бизнес-климата в СЗФО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86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1936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8588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7156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600200"/>
            <a:ext cx="8381880" cy="46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Наиболее значимые факторы для улучшения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зя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йственного климата, поддержки малого предпринимательства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Упрощение и стабильность системы налогообложени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Сокращение формальной налоговой отчетности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Формирование в обществе благоприятного социально-психологического климата для развития малого бизнес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Нормативно-правовая поддержка малого бизнес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Снижение уровня административных барьеров и упорядочение деятельности контролирующих и инспектирующих органов, снижение числа проверок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Методика оцен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828800"/>
            <a:ext cx="8305920" cy="49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торая группа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Показатели бюджетной эффективности развития МП в регион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доля налоговых поступлений от МП в консолидированном бюджете регио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тношение суммы налоговых поступлений от МП в консолидированный бюджет региона к сумме средств, направленных на поддержку МП из консолидированного бюджета регио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ношени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ум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средств, направленных на поддержку МП из консолидированного бюджета регио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к численности работающих в малом предпринимательств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состояния МП в СЗФО по объективным показателя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Методика оцен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828800"/>
            <a:ext cx="830592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ретья групп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оказатели экономической эффективности деятельности МП в регион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ентабельность продукции МП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изводительность труда МП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рачиваемость оборотных средства на МП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состояния МП в СЗФО по объективным показателя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Методика оцен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828800"/>
            <a:ext cx="8839080" cy="44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чники информации для проведения расчетов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Общерегиональные показатели, сумма средств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регионального бюджета, направляемых на поддержку МБ  – данные Администраций субъектов СЗФО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Показатели малого предпринимательства регионов – данные ГМЦ  Госкомстата России, подготовленные по специальному запросу МЦСЭИ «Леонтьевский центр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Доходы консолидированного бюджета регионов, поступление 2-х налогов от МБ – данные Минфина РФ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Число индивидуальных предпринимателей без образования юридического лица – данные Министерства по налогам и сборам РФ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состояния МП в СЗФО по объективным показателя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езультаты оцен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состояния МП в СЗФО по объективным показателя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6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6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1676520"/>
          <a:ext cx="8458200" cy="48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45820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езультаты оцен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состояния МП в СЗФО по объективным показателя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6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6696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6696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600200"/>
          <a:ext cx="830592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3059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езультаты оцен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состояния МП в СЗФО по объективным показателя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6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28720" y="121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28720" y="121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9480" y="1600200"/>
          <a:ext cx="830592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30592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езультаты оцен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57200"/>
            <a:ext cx="101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Оценка состояния МП в СЗФО по объективным показателя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6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076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3520" y="1752480"/>
          <a:ext cx="830556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3055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09:17:43Z</dcterms:created>
  <dc:creator>Nick Zhunda</dc:creator>
  <dc:description/>
  <dc:language>en-US</dc:language>
  <cp:lastModifiedBy>Николай Жунда</cp:lastModifiedBy>
  <dcterms:modified xsi:type="dcterms:W3CDTF">2003-10-22T14:59:56Z</dcterms:modified>
  <cp:revision>74</cp:revision>
  <dc:subject/>
  <dc:title>Презентация PowerPoint</dc:title>
</cp:coreProperties>
</file>