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1F5-02D0-4139-8B7A-9280B34B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FD4-AC14-4A1D-A805-EB5FEE26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0CA-EBA8-42B3-BDB6-DFFC359D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52B-B32F-4409-A171-EFD6CBC3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96D-F331-4AB0-97AC-07EF6DB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CB8-DB7C-4EAE-BCE2-8BB5D74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0A6-BE4E-4ED6-945A-97FCE1E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402F-F996-4465-975C-0A9B1A28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FB9F-C6DC-4CDA-A2D9-74B6122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97AD-2757-45E9-A961-95143AF2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5C7-41E7-43EC-AE9C-E104676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1C1-39CD-45FF-90DA-741C4DB6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3AC-2107-4C7D-8818-0ED3768E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A2C-E8E3-4DAE-BA5E-933064D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842-D494-4780-B5E4-1644E2D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D1E-83A3-40AE-8FC4-645E2372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573-12CA-45A7-A2FC-FC13D369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108-085F-4A8C-8E78-60DBB71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73E-BB99-4C20-9090-C2CB81C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7F5-7DA6-43BA-A5EC-3B3A424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D59-8DF1-4618-B74A-984D261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B07-B488-4E79-9F39-D866BB4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89B-1205-4E1E-A9F5-DAE762AF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B73-923A-4827-9B54-261AF19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784-8E49-4961-AAEB-7302D0F1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A95-16F2-4DF9-870D-C81B3BB8C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orld Bank Support to Urban and City Development in Latin America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la Freire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 Petersburg, October 21, 20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8E7-3D4B-4E73-B12A-126A0643C6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anageable Citi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es TA, and financial vehicles to improve city management in several fronts of thei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nicipal development f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ntralization lo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for municip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BI urban and city management course offered today by local institutions around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BC4-9403-480E-956E-18828F379A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vable Citi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ing against pover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for the p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ban Upgr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economic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-cre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al capital and social particip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5CF-F79C-4D30-A7E6-1C1256DF2F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mpetitive Citi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y Development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y development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ies-Al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2C4-02F9-4964-B171-89E53E705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w 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e and violence prev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economic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ropolitan areas and associ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65B-AFD2-442E-8855-D2DF0B38D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BI – Urban and City Cours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med at training city man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multidisciplinary method providing comprehensive view of cit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 of Academic curricula with Case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reached over 4,000 alumni in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d in 1998 in Toronto; today offered by partners jointly with local universities, associations and major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atin America – 2 regular courses in Brazil, Peru, Argentin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 program in Mexic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861-62D4-475D-848D-3333516D46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nds: Decentralization, urbanization and globa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le of local gover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of stable fiscal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infrastructur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ban poverty – the largest challe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Bank too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357-E089-4806-BA80-594F9CC63A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rban in Latin Americ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urbanized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decentr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uneq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most skeptical – interrupted growth, macroeconomic crisis, political challenges, debt burde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ith great pot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C65-30A8-479D-ADAE-A221431D9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st decentralized.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untries have decentralized functions and revenues to local govern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zil amended the constitution in 1988 and gave full federal character to the 5500 municip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xico is fully decentralized; and so is Argentina, Colomb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, Bolivia, and Central America have pledged important devolution of functions and revenues to local gover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AE4-829C-460D-8ABB-226781196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 on macroeconomic 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sion between central and local governments on the appropriation of tax revenues and on the capacity to bor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urred responsibilities as many of the functions (e.g. education and health) are not completely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result when conflicts are not s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tical t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scal disasters (Argentina; Boliv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BC5-37F2-4792-92EA-04ADEF5562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st urbanized 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ut 75% of the LAC population live in urban ce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zil is the most urbanized country (83%); central America and Ecuador, the least (52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 has several mega-cities and large metropolises, e.g. Sao Paulo, Rio de Janeiro, Mexico City, Lima, Tegucigalpa, Buenos 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8FC-0DBF-4806-A41B-A4289D21C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.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tion growth was too rapid and got governments by su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dequate urban management to accommodate new comers l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usion of urban sl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ion of urban poverty, despair and viol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social cap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burden local governments to repair/remedy the consequences of rapid grow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wth could have been predi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es and strategies to welcome rural migrants should have been plan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7AD-77A4-4D06-B3B2-5261CAF1FB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governments are ill equipped to deal with the local needs in terms of infrastructure and competitiv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finances are fragile and too dependent on central gover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governments need new strategies to raise local revenues and to leverage longer-term financing to fund long-term infrastructure 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ization has sharpen the differences across income levels and across jurisd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378-0FA4-4848-9B0B-34F1FA362E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Urban Strategy of the World Ban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sion: to help cities to be manageable, bankable, livable, competi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pill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Urban Development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y Development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um Upgr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CC9-0206-4258-9967-04A28F28A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9:45:32Z</dcterms:created>
  <dc:creator>wb12201</dc:creator>
  <dc:description/>
  <dc:language>en-US</dc:language>
  <cp:lastModifiedBy>wb12201</cp:lastModifiedBy>
  <dcterms:modified xsi:type="dcterms:W3CDTF">2003-10-20T13:17:36Z</dcterms:modified>
  <cp:revision>12</cp:revision>
  <dc:subject/>
  <dc:title>Cities and Globalization: Selected Issues </dc:title>
</cp:coreProperties>
</file>