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Самарцев С.Е." initials="СС" lastIdx="6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3-10-19T13:32:09.812000000" idx="1">
    <p:pos x="10" y="10"/>
    <p:text>1. Про ассоциацию (создана из МО-стратегов, есть собств стратегия, одна из целей способствовать реализации стратегий МО). Примерно понимания положение дел с реализацией стратегий Ассоциация чере Венгерское отделение фонда Сороса инициировала проект "Управление реализацией стратегий развития". 
2. Цель проекта - разработать эффективные механизмы реализации стратегий и соответствующие методические руководства) 
3. Основные шаги 
	- анкетирование
	- разработка подходов к формир мех-мов
	- Семинар на аппробацию подходов и 
	-Ознакомление с опытом реализ стр в МО
	- разработка руководств
               - Закл семинар с элем тренинга
	Проект по внедрению мех-мов</p:text>
  </p:cm>
</p:cmLst>
</file>

<file path=ppt/comments/comment2.xml><?xml version="1.0" encoding="utf-8"?>
<p:cmLst xmlns:p="http://schemas.openxmlformats.org/presentationml/2006/main">
  <p:cm authorId="0" dt="2003-10-19T13:25:25.881000000" idx="2">
    <p:pos x="10" y="10"/>
    <p:text>1. Для того, чтобы понять как реализуются стратегии в МО мы провели анкетный опрос, в котором участвовало 18 МО. 
2. На этом слайде представлены основные изменения в деятельности МО после принятия стратегии.
3. Основные выводы: 
	- принятие стратегии более чем в половине МО привело к реальным изменениям в деятельности
	- вместе с тем, не решенных задач как реалиовывать больше чем решенных</p:text>
  </p:cm>
</p:cmLst>
</file>

<file path=ppt/comments/comment3.xml><?xml version="1.0" encoding="utf-8"?>
<p:cmLst xmlns:p="http://schemas.openxmlformats.org/presentationml/2006/main">
  <p:cm authorId="0" dt="2003-10-19T13:37:56.170000000" idx="3">
    <p:pos x="10" y="10"/>
    <p:text> Понимая, что у МО вопросов по тому как реализовывать стратегию больше чем ответов, на семинаре в августе 2003 года мы в течении нескольких часов совместно с 20 МО пытались разобраться в том какие проблемы являются основными.
Всего было сформулировано 19 проблем реализации стратегий. На этом слайде представлено 9 главных.</p:text>
  </p:cm>
</p:cmLst>
</file>

<file path=ppt/comments/comment4.xml><?xml version="1.0" encoding="utf-8"?>
<p:cmLst xmlns:p="http://schemas.openxmlformats.org/presentationml/2006/main">
  <p:cm authorId="0" dt="2003-10-19T15:46:37.692000000" idx="4">
    <p:pos x="10" y="10"/>
    <p:text>Следующим вопросом который проливает свет на следующую задачу - является вопрос какие задачи при реализации стратегий являются главными? В литературе существуют различные подходы. Мы из  отобрали следующие 3 ответа кореллирующих нашей задаче.
Однако надо учеть. что это представление идет из бизнес среды и потому оно в прямую не может быть использовано для МО.  </p:text>
  </p:cm>
</p:cmLst>
</file>

<file path=ppt/comments/comment5.xml><?xml version="1.0" encoding="utf-8"?>
<p:cmLst xmlns:p="http://schemas.openxmlformats.org/presentationml/2006/main">
  <p:cm authorId="0" dt="2003-10-19T20:24:22.675000000" idx="5">
    <p:pos x="10" y="10"/>
    <p:text>Что же представляют собой механизмы реализации стратегии?
1.Однозначно понимаего всеми определения механизмов реализации не существует
2. Если в любой деятельности выделить собственно выполнение ч-л и управление этим процессом, то ясно что механизмы лежат где-то в сфере управления.
3. Управление включает в себя всю совокупность процессов, связанных с направлением активности и принятием решений, организацией обсуждения, котроля итд. 
На этих основаниях мы разработали такой подход - механизмы это процессы организации деятельности, присущие для всех сфер МО (направлениях).
Перед Вами круг нарезанный на сектора. Каждый сектор - отдельная сфера деятельности : архитектура, ЖКХ, правовое регулирование, экология, власть и управление... Всего их может быть до 25. Из них мы выделяем такие, которые есть и во всех остальных. Информация, управление. взаимодействие, финансы, право.</p:text>
  </p:cm>
</p:cmLst>
</file>

<file path=ppt/comments/comment7.xml><?xml version="1.0" encoding="utf-8"?>
<p:cmLst xmlns:p="http://schemas.openxmlformats.org/presentationml/2006/main">
  <p:cm authorId="0" dt="2003-10-19T17:05:56.505000000" idx="6">
    <p:pos x="10" y="10"/>
    <p:text>Всего по первичным прикидкам для полноценной напролняемости механизмов нами составлен список из 42 процедур. Полный список присутствует в наших материалах на сайте Леонтевского центра - Стратегическое планирование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2BA-14BC-4B5F-906D-3199FA5E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393-5E74-4F1E-A4D4-33E4CC05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BDE-AF4D-4BA5-8ACE-E3DDA939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3D3-A02E-4F42-8662-C17EC061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2F82-1A88-4E74-AEEB-35C613CB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5809-0B9A-4793-AC8D-DDBB3677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1364-7D28-4148-94CB-7D08F3B1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62FA-B991-42BE-9663-A8AD2B52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28F3-7BD8-4F9C-9838-E999E18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4CA6-02D4-44D9-9A8C-0210AC82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42D-02E9-4A69-B84F-3619EC4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DB8-FB26-4031-B0CC-55628E85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0BB-EC20-4A7F-9714-E38340D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DB72-54C5-4F4E-B5BA-EFD15025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10C2-BC43-4440-B476-733C1B70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5CE8-CA2A-440E-AECD-AFC8BC34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C367-E12F-4AF9-8713-FE219F51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D00-C42D-4622-A6B7-E70BCAC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5FC-5472-439D-9495-A47F31E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848-B99D-4293-BA9D-06FD7225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668-6C23-4350-9845-9751741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70A-A8E8-4ABA-9DD2-DE3D9F36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CAD-F587-447C-AB64-DA2BC09B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269-938F-4992-9532-E6C3A63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7FD6-69DE-43EF-A432-79580240B7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E1FB-07EB-415E-ADDF-E9285C07CC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urbex@rol.ru" TargetMode="External"/><Relationship Id="rId2" Type="http://schemas.openxmlformats.org/officeDocument/2006/relationships/hyperlink" Target="mailto:urbex@rol.ru" TargetMode="External"/><Relationship Id="rId3" Type="http://schemas.openxmlformats.org/officeDocument/2006/relationships/hyperlink" Target="mailto:urbex@rol.ru" TargetMode="External"/><Relationship Id="rId4" Type="http://schemas.openxmlformats.org/officeDocument/2006/relationships/hyperlink" Target="mailto:urbex@rol.ru" TargetMode="External"/><Relationship Id="rId5" Type="http://schemas.openxmlformats.org/officeDocument/2006/relationships/hyperlink" Target="mailto:urbex@rol.ru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ханизмы реализации стратегий разви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ект ассоциации «МЭР» : «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Управление реализацией стратегий развития муниципальных образован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енподрядчик АНО «Урбэкс-развити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участии «Обнинского фонда научно-технической, инновационной и творческой деятельности молодежи» и Программы «Малые города Росс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67640" y="36180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67640" y="333360"/>
            <a:ext cx="1225440" cy="1224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260280"/>
            <a:ext cx="266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АНО «УРБЭКС-РАЗВИТ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072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Какие изменения в деятельности администраций произошли после принятия стратегий?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(по результатам анкетирования 18 МО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9600" y="2060640"/>
          <a:ext cx="8456400" cy="5208480"/>
        </p:xfrm>
        <a:graphic>
          <a:graphicData uri="http://schemas.openxmlformats.org/drawingml/2006/table">
            <a:tbl>
              <a:tblPr/>
              <a:tblGrid>
                <a:gridCol w="7777080"/>
                <a:gridCol w="679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Образовано или планируется создать новое подразделение в администрации, отвечающее за реализацию страте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недрено положение об организации работы по реализации стратег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риняты специальные программы или планы по реализации стратег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Разработано положение о мониторинге реализации стратег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Разработаны регламенты горизонтального и вертикального взаимодействия подразделений админист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Выделены бюджетные средства на реализацию страте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Создан городской (районный) совет по стратегическому развит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Организован центр по поддержке предприним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Разрабатываются гранты по различным направлениям реализац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Какие проблемы в реализации стратегий видят администрации муниципальных образований?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вижение к стратегическим целям не является системно организованны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руктура администрации не соответствует новым функциям, обоснованным стратеги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сутствие механизмов конструктивного взаимодействия подразделений администр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сутствие взаимодействия с региональной властью по стратегическим вопроса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висимость реализации программ от финансирования, дефицит бюджетных средст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сутствие механизма поиска внешнего инвест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раслевые программы не учитывают целевых задач страте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сутствие методической поддержки при реализации стратег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сутствие механизма эффективного взаимодействия и партнерства с бизнесом и активными группами местного сооб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 чем заключаются главные задачи при реализации стратегии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дание эффективной организации, обладающей необходимыми возможностями и ресурс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пределение ресурсов по стратегически важным направлениям деятельности и управление ими (перераспределение бюджет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работка политики, изменение бизнес-процессов и выработк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рабочих процедур в поддержку страте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6000"/>
          </a:blip>
          <a:stretch/>
        </p:blipFill>
        <p:spPr>
          <a:xfrm flipH="1">
            <a:off x="1692360" y="620640"/>
            <a:ext cx="5975280" cy="5975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373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Что представляют из себя  механизмы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0"/>
            <a:ext cx="266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АНО «УРБЭКС-РАЗВИТ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67640" y="36180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67640" y="333360"/>
            <a:ext cx="1225440" cy="1224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2600" y="2017800"/>
            <a:ext cx="7772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еханизм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о процессы организации деятельности, которые присущи для всех сфер или направлений жизнедеятельности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онно-управлен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рмативно-прав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инансово-эконом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77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вестиц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циального партн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формационно-коммуник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Из чего состоят организационные механизмы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489744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онные механизмы состоят из совокупност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шаговых процедур (рабочих процедур по поддержке стратеги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цедуры формируются из набор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рганизационных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кто, зачем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ч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с кем, где, когда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ка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0"/>
            <a:ext cx="266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АНО «УРБЭКС-РАЗВИТ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40720" y="33336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740720" y="304920"/>
            <a:ext cx="1225440" cy="1224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flipH="1" rot="19757400">
            <a:off x="4642560" y="2204640"/>
            <a:ext cx="428472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635280" y="1916280"/>
            <a:ext cx="6084360" cy="5473080"/>
            <a:chOff x="3635280" y="1916280"/>
            <a:chExt cx="6084360" cy="5473080"/>
          </a:xfrm>
        </p:grpSpPr>
        <p:sp>
          <p:nvSpPr>
            <p:cNvPr id="123" name="Puzzle3"/>
            <p:cNvSpPr/>
            <p:nvPr/>
          </p:nvSpPr>
          <p:spPr>
            <a:xfrm>
              <a:off x="6598440" y="1916280"/>
              <a:ext cx="2391480" cy="290844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uzzle2"/>
            <p:cNvSpPr/>
            <p:nvPr/>
          </p:nvSpPr>
          <p:spPr>
            <a:xfrm>
              <a:off x="5902560" y="4034880"/>
              <a:ext cx="3817080" cy="2648880"/>
            </a:xfrm>
            <a:prstGeom prst="pie">
              <a:avLst/>
            </a:prstGeom>
            <a:solidFill>
              <a:srgbClr val="ff6600">
                <a:alpha val="2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uzzle4"/>
            <p:cNvSpPr/>
            <p:nvPr/>
          </p:nvSpPr>
          <p:spPr>
            <a:xfrm>
              <a:off x="4425480" y="4002480"/>
              <a:ext cx="2301480" cy="3386880"/>
            </a:xfrm>
            <a:prstGeom prst="pie">
              <a:avLst/>
            </a:prstGeom>
            <a:solidFill>
              <a:srgbClr val="339966">
                <a:alpha val="2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uzzle1"/>
            <p:cNvSpPr/>
            <p:nvPr/>
          </p:nvSpPr>
          <p:spPr>
            <a:xfrm>
              <a:off x="3635280" y="2796120"/>
              <a:ext cx="3864960" cy="2018880"/>
            </a:xfrm>
            <a:prstGeom prst="pie">
              <a:avLst/>
            </a:prstGeom>
            <a:solidFill>
              <a:srgbClr val="3366ff">
                <a:alpha val="2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085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Какие типы процедур обеспечивают процесс реализации стратегии развития МО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оцедуры организации системы управления реализацией стратегии развития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оцедуры реорганизации деятельности администрации, направленной на реализацию стратегии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оцедуры использования программно-проектных средств реализации стратегии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оцедуры организации нормативно-процессуального оформления стратегической линии в деятельности администрации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оцедуры организации бюджетного процесса и экономических расчетов с учетом стратегических ориентир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оцедуры организации работ с местным сообществом по реализации стратегии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Процедуры организации информационно-коммуникационного пространства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67640" y="36180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67640" y="333360"/>
            <a:ext cx="1225440" cy="1224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0"/>
            <a:ext cx="266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АНО «УРБЭКС-РАЗВИТ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Упрощенный пример процедуры закрепления стратегических функций за подразделениями администр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новные шаги (что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ределение состава функций требующихся для реализации стратегии – составление перечня функций и соответствующих рабо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ределение подразделений администрации, которые будут реализовывать стратегические функции, - распределение функций по подразделения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готовка организационной схемы устройства администрации, которая отражает функции текущего и стратегического характера и подразделений их выполняющи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несение изменений в должностные инструкции специалистов (нормативно-правовое закрепление) и в функциональный набор подраздел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работка регламента выполнения работ каждого подразделения по реализации стратегии, мониторингу и оценк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иглашение к сотрудничеств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ывая сложность темы, многообразие возможностей и подходов к процедурным вопросам реализации стратегий, мы будем благодарны за дополнение и уточнение созданного списка процедур и алгоритмов, наполняющих механизмы реализации стратег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ш электронный адрес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urbex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rol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ы (095) 313-5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2; 976-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1:13:52Z</dcterms:created>
  <dc:creator>Хлыстова Я.Г.</dc:creator>
  <dc:description/>
  <dc:language>en-US</dc:language>
  <cp:lastModifiedBy>Boris Zhikharevich</cp:lastModifiedBy>
  <dcterms:modified xsi:type="dcterms:W3CDTF">2003-10-20T09:13:48Z</dcterms:modified>
  <cp:revision>31</cp:revision>
  <dc:subject/>
  <dc:title>Слайд 1</dc:title>
</cp:coreProperties>
</file>