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6847-F77B-4E0F-9F71-A69087A1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8DD0-670B-401A-AF27-0A566E06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5A0-972D-4A72-8752-043827FE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625-B81D-42BE-92CF-CB60FD1A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1A9A-C125-45A5-B1AB-F3BBEBFC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277A-26AC-4CC8-A3A4-49134B59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D3C9-A505-4763-82D1-9CE827AB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34B8-7B50-491F-B39B-AF1CB869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9C04-7E6E-4029-834F-ADF24C63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51CE-E1F5-4D77-AD17-A78B1F70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1145-D5F5-4DBE-95AD-8EBF6B9A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50F-DAF6-4E32-B446-13F0249D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415C-8CC4-4527-A6BD-3AA963F7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7F69-FCD3-4955-B95C-5A8CB587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F6F9-4375-4273-B088-0426839F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EEA0-0901-4FE0-BC84-E91D63BB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7C3B-7DB5-477C-B473-34F03495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2882-9E6A-4F05-9147-142F57E7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B6B-589D-471C-8BBC-2ACC82A0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5B76-F231-4F92-8BE7-30DC93D5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69D-71D7-4BA9-81B7-C8A63D29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8FD-C93E-4E3A-9E76-F5742657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F04C-CFD3-4F72-981D-9929DD5E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2D8-5C81-42F1-B742-759E97A2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959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959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cc33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C988-9CBA-42E0-A92E-DC695B5DE89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8678880" cy="6713280"/>
            <a:chOff x="0" y="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156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0"/>
              <a:ext cx="990720" cy="6713280"/>
              <a:chOff x="0" y="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038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6610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13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4609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384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532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7513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085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133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13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5984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2798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7848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8705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184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15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03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560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13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360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284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4324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6512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0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13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133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884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1800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6846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770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0846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051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258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2973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1828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497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464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39859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043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095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8433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767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146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6954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4956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6622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5668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533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13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3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22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170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0938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241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460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17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22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22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693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989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493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5794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894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860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129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270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223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070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141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544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0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06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778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577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6635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977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94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296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353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06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153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25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071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957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760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17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869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17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541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688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469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436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41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428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75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161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5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5C56-370F-4304-A698-82B1FBD6CEB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219320" y="3428640"/>
            <a:ext cx="7380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676520" y="4648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Times New Roman"/>
              </a:rPr>
              <a:t>The World Bank Institute - Urban Team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Times New Roman"/>
              </a:rPr>
              <a:t>Urban and City Management Program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1" name="wbi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121120" cy="6829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1219320" y="3428640"/>
            <a:ext cx="7380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apacity Building Instruments in Urban Management and Governanc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at do we do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w do we do i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ere are we go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wbi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121120" cy="6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72E-75C5-4EC5-8A61-7082FDD7C3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What Do We Do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81057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85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Times New Roman"/>
              </a:rPr>
              <a:t>Supporting the development of learning infrastructure   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85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Times New Roman"/>
              </a:rPr>
              <a:t>Advising in design of country specific capacity building programs 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spcBef>
                <a:spcPts val="85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Times New Roman"/>
              </a:rPr>
              <a:t>Promoting horizontal knowledge exchange  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wbi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121120" cy="6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D1AE-D8AB-4977-B766-34F44B34BA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What Do We Do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81057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85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Times New Roman"/>
              </a:rPr>
              <a:t>Our target audience: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lvl="1" marL="914400" indent="-457200">
              <a:spcBef>
                <a:spcPts val="75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Central and Local Government officials, NGOs, Academics, Associations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1" name="wbi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121120" cy="6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3BEF-9D75-4117-9C1C-9946F21C7E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78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How do we do it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1057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raining Courses: comprehensive and specializ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olicy Services: consensus building, awareness raising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lobal Dialogu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ew knowledge products and instruments: City to City Assistance, Certification Program,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artnerships: professional networks, associations, think tanks, research and training institu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issemination:  research, publications, web-p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wbi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121120" cy="6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DDEE-549D-4605-9A8C-EA34312097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Training Courses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3343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Modular structure on diverse topics such as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Global context for Urban and City Manageme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ity Strategy and Governan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Urban Poverty Redu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Local Economic Developme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Urban Transpor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Urban Environme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Real Estate and Hous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ublic – Private Partnership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Resource Mobiliza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Budgeting and Finan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rganizational efficiency, and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more under development: Gender, Urban safety, Natural Disaster Risk Manageme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4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wbi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121120" cy="6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8E47-93DE-413B-A0FD-AD650B6E32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Training Courses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8334360" cy="39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850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Times New Roman"/>
              </a:rPr>
              <a:t>Diverse Delivery Modes: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ace to fa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istance Learning: CDRom, web-based, video-conferen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lended Cours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0" name="wbi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121120" cy="6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FA9-30D5-42E6-8002-0FEA14A6AD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Where are we going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81057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ur Objectiv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mprove the quality of professional service in the key posts of confidence in citi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way to achiev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work through national and regional intermediaries, such as associations of local governments, strategic partners and allia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velop competency-based skills, rooted in municipal law and administrative practice, and backed up by national legislation and by nationally-sanctioned levels for salari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vest into knowledge base: diagnostics, module developments, EWS, research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3" name="wbi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121120" cy="6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E83-BA57-4837-B2CD-4E77D73668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5:38:57Z</dcterms:created>
  <dc:creator> Arturo Galindo &amp; Ana Maria Carvajal</dc:creator>
  <dc:description/>
  <dc:language>en-US</dc:language>
  <cp:lastModifiedBy>WB83811</cp:lastModifiedBy>
  <dcterms:modified xsi:type="dcterms:W3CDTF">2003-10-20T19:06:47Z</dcterms:modified>
  <cp:revision>16</cp:revision>
  <dc:subject/>
  <dc:title>The Role of Associations and Technology in  Training for Local Governments  in Latin America</dc:title>
</cp:coreProperties>
</file>