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66B-45C6-422E-8944-ACCEC9BE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051-F2B4-490F-9491-F30BB61D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6D0-64FE-4052-A25F-04D78BBF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37D-BC6E-43CC-B116-4C72B304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046-B1A8-4E80-9B7B-1BD1764C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C87-85FA-4534-8832-200A44BD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581-17E3-4D8C-922C-8F26D568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F17-0E99-4F57-A96F-FFD242B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255-2925-4CB5-90CB-537A9BDC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45A-99BA-4F2C-A799-E7DB455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0F0-CCAB-4F87-98ED-91940F9D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E07-A10F-4F59-BD4B-F655EA5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46E-F579-4106-BC81-F9DBE9567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ld Bank Support to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ssian C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. Petersbu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tober 21, 20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00" y="5943600"/>
            <a:ext cx="8748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6400800"/>
            <a:ext cx="760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2440" y="65214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The World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 Plann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ng a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port for the Planning St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projects – for example, coal tow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WBI and other training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partners --  Cities Al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port for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 World Bank loans and guarant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vereign obl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federal reform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ment guarantees (MIG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w Bank Group Municipal F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nicipal F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, pilot activity – welcome a Russian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ns to municipalities or municipal enterprises, non-sovere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arantee bo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ing higher quality cre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:   dduff@ifc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19:43:51Z</dcterms:created>
  <dc:creator>World Bank User</dc:creator>
  <dc:description/>
  <dc:language>en-US</dc:language>
  <cp:lastModifiedBy>WB50905</cp:lastModifiedBy>
  <cp:lastPrinted>2000-10-25T05:31:42Z</cp:lastPrinted>
  <dcterms:modified xsi:type="dcterms:W3CDTF">2003-10-20T12:38:12Z</dcterms:modified>
  <cp:revision>8</cp:revision>
  <dc:subject/>
  <dc:title>INTERNATIONAL TRENDS IN WATER PRICING AND USE</dc:title>
</cp:coreProperties>
</file>