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0DE4-FF58-49B7-9CD7-1FA8C9A8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2813-FBDA-4099-9A2D-1E80BD50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7FD4-4AC6-4191-A78D-79A37E5A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47E-34FD-4DF4-A17F-E2B25EE2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9D98-CF22-4D59-B393-69CD6B1D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E814-9F33-4DE2-BC2F-B323A2E5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9E6-08F9-49E3-9663-EAB75FF4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9C3-71B5-4A28-8911-F34E3022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F41-3363-44D4-8A7D-6B6DFEF4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BAA8-7D11-4FD4-A5BB-2F34B336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FBC-760B-4886-B1F5-CE91622C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76FE-A030-4569-B993-1B127204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317F-1365-46F3-89FA-9482174DA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mblem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447920" cy="1065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28800" y="533520"/>
            <a:ext cx="69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едставительство Европейской Коммисии в России                    Санкт-Петербургский 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5238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циональная индикативна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грамма для России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держка институциональных, законодательных и административных рефор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держка частного сектора и содействие экономическому развитию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мягчение социальных последствий перехода к рыночной экономик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1828800"/>
            <a:ext cx="41907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ндикативная Программа ПГС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алтийской линии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витие инфраструктурных сетей (пограничны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реходы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щита окружающей среды и управление природными ресурса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держка частног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ектора и содействие экономическому развитию</a:t>
            </a:r>
            <a:r>
              <a:rPr b="0" lang="da-DK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грамма малых проектов приграничного сотрудничест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Г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щий бюджет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9.2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лн. Евр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едующий раунд приема заявок предположительно будет открыт в декабре 2003г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 последним сроком подачи заявок в марте 2004 г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граммы добрососедств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2004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. до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щий бюджет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5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лн. Евр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2004-200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рвый раунд приема заявок предположительно будет открыт летом/осенью 200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оый инструмент добрососедств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чиная с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200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7 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emblem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447920" cy="1065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28800" y="533520"/>
            <a:ext cx="69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едставительство Европейской Коммисии в России                    Санкт-Петербургский 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5238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emblem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447920" cy="1065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28800" y="533520"/>
            <a:ext cx="69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едставительство Европейской Коммисии в России                    Санкт-Петербургский 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5238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41907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Малые проекты ПГС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2003: 9.2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лн. Евро  для 4-х стра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щие приорите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онды Тасис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дпочтительно, чтобы проекты были связаны с Интерре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нтрализованный  отбор проект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44956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рограммы добрососедств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2004-06: 75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лн. Евро для 4-х стран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н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редства будут выделяться по каждой программ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оритеты будут определяться участвующими региона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онды Тасис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нтерре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диный прием заяво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щая процедура отбо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бор проектов децентрализован до уровня территории/области осуществления программ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7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граммы добрососедства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цел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действие устойчивому экономическому и социальному развитию приграничных регионо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вместная деятельность по решению общих задач в таких сферах, как окружающая среда, здравоохранение, предотвращение и борьба с организованной преступность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еспечение эффективности и безопасности грани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действие мероприятиям местного масштаба, имеющим характер непосредственных контактов между людьм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emblem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447920" cy="1065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28800" y="533520"/>
            <a:ext cx="69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едставительство Европейской Коммисии в России                    Санкт-Петербургский 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5238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ctr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граммы добрососедства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работк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есть программ для Росс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чие Группы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sk Forc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атывают программы и устанавливают приоритет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ы основаны на равноправном партнерстве, поэтому приоритеты должны отражать приоритеты всех участвующих регион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бственность региональных/местных властей, НКО, других организац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жной является разработка проектных предложен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мер проекта, приемлемые организации и длительность проекта еще не определе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emblem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447920" cy="1065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8800" y="533520"/>
            <a:ext cx="69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едставительство Европейской Коммисии в России                    Санкт-Петербургский 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5238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7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граммы добрососедства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чиная с 2004 г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юджет выделяется на каждую программ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1-3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лн. Евро в год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граммирование, прием заявок и отбор – на местном уровн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ем заявок покрывает обе стороны границ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екты должны быть подготовлены совместно партнерами из регионов, находящихся по обе стороны границ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ектный Секретариат проводит первый анализ проект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борочный Комитет отбирает проекты для финансировани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emblem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447920" cy="1065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28800" y="533520"/>
            <a:ext cx="69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едставительство Европейской Коммисии в России                    Санкт-Петербургский 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5238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2:17:33Z</dcterms:created>
  <dc:creator>peteran</dc:creator>
  <dc:description/>
  <dc:language>en-US</dc:language>
  <cp:lastModifiedBy>Boris Zhikharevich</cp:lastModifiedBy>
  <dcterms:modified xsi:type="dcterms:W3CDTF">2003-10-21T07:13:26Z</dcterms:modified>
  <cp:revision>18</cp:revision>
  <dc:subject/>
  <dc:title>PowerPoint Presentation</dc:title>
</cp:coreProperties>
</file>