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BB7-510A-4573-A869-E1E9282F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145-E083-496A-9EDA-9938D8A9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6E1-BC67-4E6C-B678-B40C22FD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512-B7F9-482F-9B20-1C8170BE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7289-FC13-4750-BBB4-8A7BEDBE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E174-A5FB-4110-8B1B-466B7654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3695-0999-49D8-B698-0EBCDE1A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62FD-E09E-49DF-9093-A4E3E057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E732-137D-443E-9BC0-3FB3A366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FA85-5DB3-4B35-9E54-263E4879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E073-96A8-4B72-B7B9-A47BC6F5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238-8674-4F97-9457-F9B51956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F1EE-6575-4CF6-8684-0BBD4D61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BFA0-9C5A-478D-B55A-06C9ACDC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CCB3-55EA-4C6F-9EE6-06C69D35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030F-8AAE-4322-95B8-010F2FA4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5986-42B9-423D-8E90-B2921F82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A40-895F-4345-941F-D06F09EE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3EB-CE75-4325-8195-E923FA84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D1F-8872-450D-BA9A-9E6B1994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A8F-F144-484F-9A64-FD5BB7B7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BA5-2140-4CA1-9517-211F450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E62-E2F1-4E1A-BBCC-EAC604B8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E72-C746-4BAB-A95E-BE1F5C7F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7872-9D9E-41A4-B5A8-15E0B7546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B033-E69B-4B02-9AFC-91DD523EE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trategic Planning Experience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As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. Petersbu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tober 20-21,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h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City Regional Development Strategies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hengdu, Zhengzhou, Erdos, Lanzhou And Xinxia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trengthen city-regional development processes in western China, and enhance the effectiveness and equity of the resulting city-regional development strategi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h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etropolitan Level CDS in One Major City-Region and One Provincial Capit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hangsha, Zhuzhou &amp; Xiangtan (Hunan), And Guiya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lot metropolitan level CDS covering four c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ssist develop regional strategies/plans based on participatory approaches and stakeholder consultation proces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mbodia:Scaling Up Community-driven Development in Phnom Penh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. Expand Phnom Penh Poverty Reduction Strateg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Develop urban poor settlement improvement progr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Provide framework for prioritization of urban invest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4. Influence on-going development initiatives in Phnom Penh C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h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S for City of Guiyang (Guizhou Province) – final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DS for Changsha-Zhouzhou-Xiantan – final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 CDS Manual for Ch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dia: Tamil Nadu/Hyderabad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Tamil Nadu State – State level CDS program and part of on-going project on infrastructure finan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yderabad City – city-based program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formulation of a City Development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nstitutionalization of sustainable delivery mechanism at the community 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Problems with CD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Defici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political and financial commi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ations too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expertise in stakeholder involvement/lack of CSO/N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stitutional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Institutionalization – or how do you keep the CDS process going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responsibility to a specific group in a key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re the availability of resources and support of other depar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continuing stakeholder participation (e.g, stakeholder task force/commission to continue as plans and strategies 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Institutionalization – or how do you keep the CDS process going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up monitoring system to track performance relative to CDS objectives and assign responsibility to best-equipped depar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intensive search for financing for key CDS projects from internal and external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research program for key sectors with university, department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Institutionalization – or how do you keep the CDS process going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e TA to introduce new approaches/experiences from other c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elected priority projects, complete project preparation to high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CDS an integral part of city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volving Process of Strategic 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lanning in Asi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lot Stage (17 cities in 6 countries since late 1988 – Cambodia, Vietnam, Thailand, China, Mongolia, Philippines and Indones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ing up (46 c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ing  (Associations of  Government/Mayors – regional dialogu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nership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ion into operations (CDS-related projects, APLs, MDF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 of performance monitoring (benchmarking)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strategic planning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always been plann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ster vs strategic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ing to demographic pressures, economic opportunities, and decentralization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livable and economically vibrant places to l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ecentralizing Tren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ing local government responsibility for service delivery and finan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na: 7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: 4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onesia: 25-3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:10-1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rban Contex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     CH     Phil   Cam   India     R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 (mil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11       1300       80        12      1045       1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 Growth rate (%)           1.3          0.7        1.9       1.6        1.5        -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NI/capita  (atlas)              710        940     1020       280      480      2140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P growth rate (%)          3.7          8.0       4.6        4.5        4.4        4.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rban (%)                          43.0        38.0    60.0        18.0     28.0      73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verty (% p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ving on $1/day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7.2        16.1     14.6         ---       34.7       6.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World Bank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ummary of Select CDS Project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ilippines - 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scaling Poverty-focused City Development Strateg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 + c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– Highly decentralized (1991 Local Government Co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: 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nstitutionalize poverty-centered CDS approach in the urban policy framework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hilippi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Activities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ustomize CDS and support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stablish core team (LCP) for TA and advisory services to replicate CDS activities nation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evelop training programs and toolk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stablish mechanisms for sharing, delivering and updating the CDS knowled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donesia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: Institutionalizing Poverty-Focused CD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c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: “Big Bang” decentralization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22/1999 on Regional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25/1999 on Fiscal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ing local government responsibility for service delivery and financing is 25-3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dones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m – Institutionalize C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central management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tion of projects in 5 c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s,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20:34:58Z</dcterms:created>
  <dc:creator>wb16677</dc:creator>
  <dc:description/>
  <dc:language>en-US</dc:language>
  <cp:lastModifiedBy>Business Centr</cp:lastModifiedBy>
  <cp:lastPrinted>2003-11-21T06:10:52Z</cp:lastPrinted>
  <dcterms:modified xsi:type="dcterms:W3CDTF">2003-11-21T06:13:39Z</dcterms:modified>
  <cp:revision>3</cp:revision>
  <dc:subject/>
  <dc:title>Strategic Planning Experience in Asia</dc:title>
</cp:coreProperties>
</file>