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735-67BB-46CB-A791-A893BE7F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6EB-480D-4EC7-A1F3-AA6267AC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FAD-4D8B-42BC-B1CF-04644F18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732-7043-44F6-9FA5-042D0C58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0AA-41ED-4DD1-8058-295B0DF1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2D8-B554-4713-9ABF-CA9C2FE0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12C-F1A1-4992-9898-1A3D93F2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C18-9E9E-4AF7-9F7B-8E0B7EB6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D5F-70BE-4593-B63A-4A4F65A6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BE4-1114-43F1-A3F9-F3EC9689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9BA-230C-484B-833D-B6E8F658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879-4731-4B17-B329-AB642730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96DB-7E59-4A4B-92AF-9A3EF4184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new scene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re-dis-covering the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LIDERAJE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close and local leadership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• to involve all public and private sectors (triangle U/F/A)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• collaboration with all levels of the administration ,firms and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institution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• strateg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LBembo"/>
              </a:rPr>
              <a:t>Comparer les villes europé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 Frutiger Bold"/>
              </a:rPr>
              <a:t>A. La population des villes européennes en 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62323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LBembo"/>
              </a:rPr>
              <a:t>Les 180 agglomérations: analyse compar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 Frutiger Bold"/>
              </a:rPr>
              <a:t>1. La population e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629136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LBembo"/>
              </a:rPr>
              <a:t>Les 180 agglomérations: analyse compar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 Frutiger Bold"/>
              </a:rPr>
              <a:t>2. Évolution de la population des villes de 1950 à 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62323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LBembo"/>
              </a:rPr>
              <a:t>Les 180 agglomérations: analyse compar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 Frutiger Bold"/>
              </a:rPr>
              <a:t>4. Le trafic de passagere des aérroports en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62323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LBembo"/>
              </a:rPr>
              <a:t>Rayonnement et spécialis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 Frutiger Bold"/>
              </a:rPr>
              <a:t>16. Le classement des vil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625788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LBembo"/>
              </a:rPr>
              <a:t>Les villes europé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 Frutiger Bold"/>
              </a:rPr>
              <a:t>Tableau 3. Points obtenus par les 180 agglomérations sur les 15 indic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06760" y="914400"/>
            <a:ext cx="393048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333399"/>
                </a:solidFill>
                <a:latin typeface="Times New Roman"/>
              </a:rPr>
              <a:t>Aula Barcelona</a:t>
            </a:r>
            <a:br>
              <a:rPr sz="4400"/>
            </a:br>
            <a:br>
              <a:rPr sz="4400"/>
            </a:b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Elisabets 12</a:t>
            </a:r>
            <a:br>
              <a:rPr sz="4400"/>
            </a:b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08002 Barcelona.- Spain</a:t>
            </a:r>
            <a:br>
              <a:rPr sz="4400"/>
            </a:br>
            <a:br>
              <a:rPr sz="4400"/>
            </a:b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aulabarcelona@cidob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06668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THE GENERAL FRAMEWORK.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new technologie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new productive structure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new  organization systems and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 functionning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social transformations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institutional changes:subsidi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THE NEW ROLE OF C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incidence of globalizatión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Cities as   agglomeration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cities and network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new forms of gober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THE METROPOLITA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new frameworks and urban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growth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spatial tendencies of the urban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system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suburbializatión and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poli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THE EMERGENCE OF THE NEW SOCIETY/ECONO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the human capital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the magic triangle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university/administration/firm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from  sectorial to functional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point of view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functionning through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EL CASE OF BARCELONA  (strong and weak point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urban and metropolitan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evolution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sectorial structure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external projection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comunication system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social/economic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THE THREE POSSIBLE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inertial/touristic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• nursery and innovative city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• head offices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BARCELONA AS AN INNOVATIVE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creation/transmissión of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knowledge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promotion of new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ideas/firms/product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atraction and retention of talent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to feed enterprising sector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promotión of Barcelona brand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elements of other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E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diversified economy and policentric area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competing with innovation and quality production , not only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with  cost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critical volume of human and technological capital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Re-structuring of the scientífic/technical system (much more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effort in R+D)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higher opening to the world  ( specially for universities)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close relationship between universities/firms/institution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transport and  telecommunication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1:50:43Z</dcterms:created>
  <dc:creator>x</dc:creator>
  <dc:description/>
  <dc:language>en-US</dc:language>
  <cp:lastModifiedBy>Bet Marrugat</cp:lastModifiedBy>
  <dcterms:modified xsi:type="dcterms:W3CDTF">2003-10-17T14:11:47Z</dcterms:modified>
  <cp:revision>7</cp:revision>
  <dc:subject/>
  <dc:title>Comparer les villes européennes</dc:title>
</cp:coreProperties>
</file>