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204-2F12-40D0-BF59-C40AFD9C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E92-A321-4829-9210-A977B9CF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542-4C16-466A-92A4-4D17B5D8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22C-2638-4C7D-8B34-4EC206FE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AA2-A7E6-4974-A358-F8E69C26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802-7B66-4C28-9E71-34C47A5B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232-7969-4820-AD64-8941475E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A73-E8DC-4D15-BF21-B27CA84F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3E2-A2EE-49A1-8A6D-10483162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30B-3803-4C9C-98D7-6F918B9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E27-D59D-43ED-AACD-452A1D5B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3A3-1323-4CD9-B400-7BCECACA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ED20-BC98-4E0A-A60C-776D4C6C2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new scene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re-dis-covering th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LIDERAJE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close and local leadership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• to involve all public and private sectors (triangle U/F/A)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• collaboration with all levels of the administration ,firms and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institution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• strateg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Comparer les villes europé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A. La population des villes européennes en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62323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Les 180 agglomérations: analyse compa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1. La population en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62913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Les 180 agglomérations: analyse compa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2. Évolution de la population des villes de 1950 à 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623232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Les 180 agglomérations: analyse compa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4. Le trafic de passagere des aérroports en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62323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Rayonnement et spécialis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16. Le classement des vil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625788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LBembo"/>
              </a:rPr>
              <a:t>Les villes europé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B Frutiger Bold"/>
              </a:rPr>
              <a:t>Tableau 3. Points obtenus par les 180 agglomérations sur les 15 indic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06760" y="914400"/>
            <a:ext cx="3930480" cy="56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333399"/>
                </a:solidFill>
                <a:latin typeface="Times New Roman"/>
              </a:rPr>
              <a:t>Aula Barcelona</a:t>
            </a:r>
            <a:br>
              <a:rPr sz="4400"/>
            </a:br>
            <a:br>
              <a:rPr sz="4400"/>
            </a:b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Elisabets 12</a:t>
            </a:r>
            <a:br>
              <a:rPr sz="4400"/>
            </a:b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08002 Barcelona.- Spain</a:t>
            </a:r>
            <a:br>
              <a:rPr sz="4400"/>
            </a:br>
            <a:br>
              <a:rPr sz="4400"/>
            </a:b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aulabarcelona@cidob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0666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GENERAL FRAMEWORK.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new technologie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new productive structure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new  organization systems and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 functionning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ocial transformations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institutional changes:subsidi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NEW ROLE OF C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incidence of globalizatió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ities as   agglomeration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ities and network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new forms of gober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METROPOLITA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new frameworks and urba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growth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patial tendencies of the urban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system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uburbializatión and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poli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EMERGENCE OF THE NEW SOCIETY/ECON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the human capital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the magic triangle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university/administration/firm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from  sectorial to functional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point of view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functionning through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EL CASE OF BARCELONA  (strong and weak points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urban and metropolita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evolutio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ectorial structure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external projection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omunication system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social/economic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THE THREE POSSIBLE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inertial/touristic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• nursery and innovative city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Times New Roman"/>
              </a:rPr>
              <a:t>• head offices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BARCELONA AS AN INNOVATIVE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creation/transmissión of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knowledge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promotion of new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 ideas/firms/product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atraction and retention of talent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to feed enterprising sector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promotión of Barcelona brand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elements of other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4572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99"/>
                </a:solidFill>
                <a:latin typeface="Times New Roman"/>
              </a:rPr>
              <a:t>E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diversified economy and policentric area 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ompeting with innovation and quality production , not only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with  cost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ritical volume of human and technological capital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Re-structuring of the scientífic/technical system (much more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 effort in R+D)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higher opening to the world  ( specially for universities)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close relationship between universities/firms/institutions</a:t>
            </a:r>
            <a:br>
              <a:rPr sz="2400"/>
            </a:b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• transport and  telecommunication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1:50:43Z</dcterms:created>
  <dc:creator>x</dc:creator>
  <dc:description/>
  <dc:language>en-US</dc:language>
  <cp:lastModifiedBy>Bet Marrugat</cp:lastModifiedBy>
  <dcterms:modified xsi:type="dcterms:W3CDTF">2003-10-17T14:11:47Z</dcterms:modified>
  <cp:revision>7</cp:revision>
  <dc:subject/>
  <dc:title>Comparer les villes européennes</dc:title>
</cp:coreProperties>
</file>