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D665-4D2E-4C90-8269-62C47ACF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E1D-0444-4260-A7EC-2D1C282A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F1751-A95E-44A5-9B22-5E377813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A6E6D-6F4D-4069-AA06-DAE475F4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1B00A-BBF8-460E-A02C-DDCCC66F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4124D-A70E-488E-94CD-4A966C48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1364E-A389-438F-A861-415565F4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635C9-CB9B-46A8-A769-814E97E9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CC3A2-5BF1-4134-9442-9D500C4F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94586-6FA0-4300-958F-1C867429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3B000-130E-4C75-96F1-6800591D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E49AA-851B-4F81-8792-E1A95853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7CA-3E50-4EBE-81E1-DA864441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5D360-BDCD-4C6C-8301-2585B2A0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FD375-216E-436F-B0F1-B8F7E7E1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1A951-B835-4126-BBD8-C6EB4FAD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AF490-5756-496E-B04C-4B5F0088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68CB2-E884-4D4A-ABB0-6914A4F7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3EE93-ED84-4FC4-ACB3-3AE98D59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2F663-557F-47E6-943A-28535DC5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30F4F-D8AA-41D2-8561-FA7432E8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DA4BC-8F1A-47E4-B327-35ADEE74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5F035-C1E5-435C-80A1-9234567C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554-27DD-4DC2-AAD8-066BFFD9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B61A2-B416-4556-BA9B-499C073D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5275E-E331-49F4-8F80-E10F57D3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D2C5C-EDD2-4F35-A2AB-E66ADF17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D6C1F-30CC-412E-A683-2C67766B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0FBD0-29A2-4680-AB9C-46967115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2DC95-D514-4BBE-8D54-697BEEE5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2BFED-6F55-4877-B077-9A9E10D9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E8526-8C68-4A26-9C66-3A900401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D08E0-0B09-4CC6-91A7-5686B190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3E6F6-7500-4606-A7B6-C06F6579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DE7C-6BD8-4389-9766-2730B1D2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5AC99-00D7-4A32-8D78-9C2ADEA7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A3B79-AF0F-478D-B9D4-C5EEAECE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9A186-CCB4-4C02-9751-69E9AC2D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F8C15-9C77-42B7-B9A2-CBFEC8D7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5C125-27A3-48F8-BB0E-CFF0B32B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DBA6B-C376-4F3C-A525-061692F0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4895D-78D8-4AA7-9DF6-6A06BD61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3B29C-17BB-4743-AAE5-4686958B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61F57-CDBE-4801-816C-7124BD94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F25EE-C612-43EB-BDEF-AFEDFB1B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5BD3-99A0-4DAA-9447-13B2B0C0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A3167-6672-4513-9BB0-AE5A95A1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68092-8C62-47B1-85A1-765BB831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D07D6-6E7F-4D51-A74C-F954D469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C52C8-E0A5-4CD0-B8CD-BC1A3A1C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EECFF-9F76-464E-9F82-038C3D52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4EE62-0507-4B03-9005-D38C1F87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7A968-8B48-4041-99B2-1EB5E14B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E0DFBC-8DA8-4453-AD25-11FC09D6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62FF5-DA91-4630-B974-9DAE74DF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BC10C-4079-4081-994A-88A025F5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3EFD-F7F3-4F11-A868-D1A1B6DC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AEA7D-1AF9-48D4-97BE-CB7B5DD7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0691D-2A51-408D-BD34-8427D1C7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B0D93-E6F1-4CA9-948E-6021DF8D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E9E7F-18BC-4773-89C9-85F67E6E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4C7ED5-D0DD-4C77-B8AA-CE06C754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04CA33-48CC-44B6-9804-081F6BE9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2A34B-F509-4FC3-838F-BF753909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F3EE-3E90-4986-A9E8-22C6BEE9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E219-E5CD-435E-9CA4-A25410B3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00D3-60A3-4675-82EA-CBC77211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3311-CF72-4B23-86B2-217031FE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A0F-CF1A-478C-81C2-78008BC4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C25D-C608-4E4F-BEC5-6A197F4A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22DF-9122-4C4F-887A-0C2806A3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2580-B635-4BA2-8596-952653A9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28E6-7631-457D-9655-60E39398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CD3B-35A0-43CF-87E7-45DDEC4B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6EDB2-4229-4A53-A48F-7B7B75C2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91CE6-B475-48C4-B6AE-98D554CE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E2804-3D36-474B-A4F9-565A2677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F370F-102A-4560-9F78-83212E6C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23B52-E63D-46D9-AFFA-CC289600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46BE-1F05-4602-85DD-BC4726B5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94292-11C8-4672-8FD5-3D139F62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59C4F-BB0E-4E4A-ABBE-417BC33D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C02AD-FEAB-47A5-91C8-EAD64210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B7C3A-18DE-45F6-BC90-BD36350F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428C8-949B-4CA1-9D9D-EB56D9FD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083D3-4BC2-4EE7-8AA6-E8420B14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320E3-60F2-4938-BAAD-1322CE31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0638B-A093-4B63-B633-7D184343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4E62D-0C3F-48CD-A4EB-8F075859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AA87E-1F54-4646-A6FC-B643F745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C16A-FA08-4398-90F8-A2D6F7DF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B658F-A283-4D39-A508-E8A5EB6A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45562-88BC-45E5-A97A-BAA70ACE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0C17F-4C0E-40B4-ABAE-C90E8F0E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2303B-9599-438A-9BFD-D16477A1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78B06-6DCF-473A-8A38-EA308613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E2F43-A3FD-4490-AD0C-33ECAB32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F9747-EC67-4F60-BB85-F63B4FA1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F92DF-F33A-455D-A184-E5DBE40B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063B9-4A6E-485B-93F5-70552408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1E96C-12B5-46B6-B7BD-034317ED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778-3A90-4596-868A-1E5F8FB7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54CF7-0AF0-46EC-B225-8B78F83F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58055-D4E1-4251-A0E6-852EF3AE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F0571-7858-4B91-9ED8-9D112C29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C245C-3C44-42A7-A44F-4903B7FD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CF511-630A-4070-B5A4-59F55C3F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5BF96-73BD-4975-8931-3D5A928A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54D25-D797-47EE-A56F-C603B77A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5E32D-5465-4406-BD4A-9690E03C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DCAF4-FA68-481C-B580-2EAED60D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D1CF2-2BDF-4154-ABC2-B2B1179F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8350-2DAC-4B4A-B66A-C68C1A30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014E8-66E0-4028-A0C6-692B106C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09384-13F8-48F9-99D8-87685652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DE2AB-9D33-470B-A891-B2502DDE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72A92-F9F4-4DBE-81CE-66605F0E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F1838-ED4B-43D8-8CFF-27FB63EB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D4A3A-57FC-4BB9-968C-72A39227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D9AC7-1A00-488A-8029-285D8F68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9EC41-0E40-43CF-BD06-C0AFD530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A4F20-8855-466E-89A1-16F6BFA7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69A68-2249-421E-923A-8B3EADAC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A19-4B4F-4181-A88B-11F743B4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D38D3-296F-4BCD-A266-4C2EA7E5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7440D-98D9-4A81-A2C1-79239021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2AB55-2BC4-48DC-A350-EE6D79FF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E93CD-B24A-43CA-99F7-C03AF292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3F03C-5932-4097-897A-87F352CE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96326-6FB0-4464-B739-C4D2DF14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5713E-0DC2-4A4C-84AB-63435157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BC458-B544-414B-960B-C1736424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ED189-763C-4F6B-9E4D-8043DFCA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CD1F3-B77E-41F7-AD7A-6D631A47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404F-7282-442D-AB13-79B93641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4B780-E1AF-4103-BDCD-8640B7F8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B7019-E8E7-47F1-8263-D3B07E5B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1B540-C101-45F2-91DC-547C40D0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10398-87DF-40F0-AFC9-55C2E84D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B1C0D-3C0A-4750-8738-AFD28298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E5738-51F4-4461-B742-E63E33F8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60AA3-6378-4F7A-8EBA-301876BE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1BC0E-6118-4B07-8F49-1B799265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C5C70-4C08-4EAD-B537-67CB3A8C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898A7-6144-4F48-BA58-FC507EC4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63A3-54B5-4F8D-A380-D642CEB0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1FBAA-D2D3-4401-A643-37759E45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BCF66-5FCA-45CD-90EB-763F952A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08C5B-BB04-474F-8D0B-8A1C959E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CF73C-07CC-45FC-9AC5-95F8CD31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62531-CB9C-4045-A9AF-3B6FC08D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1E0E0-9C2D-43DE-B038-4E4DCD56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40370-A4A4-47E1-8530-CAE15B0E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6C30D-792D-4334-B9B2-EC6FB840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2844B-1627-4119-856C-125D2BFC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DF68F-DAA3-49E7-B418-E40C497C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8D60-ACD4-42BA-9DAB-2865264744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F658-D110-4B4E-A0FE-B61BBE2C6C1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D54A-2626-467D-85E2-D16289B92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82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49E8-BF86-4F72-8C8B-B790CE2396A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62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5D5E-FE20-4D4F-8142-0273E5EC5C5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71DB-1239-4943-9EF7-63A8288D975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3CEC-FE11-44AB-8905-459F47ED03D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A092-29A4-4D62-B45B-B901987BE96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6A2A-3951-4F5A-A7C7-25108E6F6C6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2328-EFDB-4CB5-940B-7E6527AB574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27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77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82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88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92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96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300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4F21-4D20-4121-850D-B614AE638CF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359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360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374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378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82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86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90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BCCD-BBB5-449B-858C-4DB3AADBA3E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2918-ED97-4CAC-8BAD-E4A935F6594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1" name=""/>
          <p:cNvGraphicFramePr/>
          <p:nvPr/>
        </p:nvGraphicFramePr>
        <p:xfrm>
          <a:off x="755640" y="860400"/>
          <a:ext cx="7993080" cy="34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60400"/>
                    <a:ext cx="799308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883080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4" name=""/>
          <p:cNvGraphicFramePr/>
          <p:nvPr/>
        </p:nvGraphicFramePr>
        <p:xfrm>
          <a:off x="819000" y="2062080"/>
          <a:ext cx="7280280" cy="294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2062080"/>
                    <a:ext cx="7280280" cy="29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"/>
          <p:cNvSpPr/>
          <p:nvPr/>
        </p:nvSpPr>
        <p:spPr>
          <a:xfrm>
            <a:off x="883080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7" name=""/>
          <p:cNvGraphicFramePr/>
          <p:nvPr/>
        </p:nvGraphicFramePr>
        <p:xfrm>
          <a:off x="955800" y="411120"/>
          <a:ext cx="7848360" cy="487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5800" y="411120"/>
                    <a:ext cx="7848360" cy="48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883080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0" name=""/>
          <p:cNvGraphicFramePr/>
          <p:nvPr/>
        </p:nvGraphicFramePr>
        <p:xfrm>
          <a:off x="1374840" y="133200"/>
          <a:ext cx="7607160" cy="653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133200"/>
                    <a:ext cx="7607160" cy="65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883080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711360" y="722160"/>
          <a:ext cx="8072280" cy="43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22160"/>
                    <a:ext cx="807228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"/>
          <p:cNvSpPr/>
          <p:nvPr/>
        </p:nvSpPr>
        <p:spPr>
          <a:xfrm>
            <a:off x="883080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1150200" y="43560"/>
            <a:ext cx="73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Матрица  территориальных ресурсов волости (посел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88920" y="549360"/>
          <a:ext cx="8964720" cy="616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549360"/>
                    <a:ext cx="89647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"/>
          <p:cNvSpPr/>
          <p:nvPr/>
        </p:nvSpPr>
        <p:spPr>
          <a:xfrm>
            <a:off x="883080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649440" y="45000"/>
            <a:ext cx="83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Проектная матрица реализации стратегического плана на конкретной терри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83080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0760" y="855720"/>
          <a:ext cx="8964720" cy="55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0" y="855720"/>
                    <a:ext cx="8964720" cy="55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4" name=""/>
          <p:cNvGraphicFramePr/>
          <p:nvPr/>
        </p:nvGraphicFramePr>
        <p:xfrm>
          <a:off x="1116000" y="836640"/>
          <a:ext cx="777708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836640"/>
                    <a:ext cx="77770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"/>
          <p:cNvSpPr/>
          <p:nvPr/>
        </p:nvSpPr>
        <p:spPr>
          <a:xfrm>
            <a:off x="883080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10:09:11Z</dcterms:created>
  <dc:creator>gavriil</dc:creator>
  <dc:description/>
  <dc:language>en-US</dc:language>
  <cp:lastModifiedBy>NACH</cp:lastModifiedBy>
  <dcterms:modified xsi:type="dcterms:W3CDTF">2003-11-11T11:32:36Z</dcterms:modified>
  <cp:revision>15</cp:revision>
  <dc:subject/>
  <dc:title>Слайд 1</dc:title>
</cp:coreProperties>
</file>