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715-A2F0-41B1-9A78-30312F98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311-6710-41D8-9398-3DCA9255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0E3-FEE5-4E46-B5B9-63B219B5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9A6-A15E-4671-AAB7-51A836CD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829E-91F9-4E37-AFC7-90377B9D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D3AC-8259-46C7-BC37-8FCCA64F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532A-69F2-46AD-9EA0-F674559C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B088-28B3-4F31-99D1-DBDFE488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23AE-C9FE-404B-B89F-52E5628F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5F26-3DAA-4071-8DF4-01B62D61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61AD-DBF7-497C-A4C4-28FA4537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49D-4863-4AA6-B921-7488BACE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8C09-6CA8-470C-9876-F0F405E0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647B-FE77-4FDE-939A-10D7C0C0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6131-7896-4A32-BAD8-C7BE74DF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F30E-D447-4F32-8D50-1F8CB2D3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9417-9E74-490D-AF0D-33FDCE32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5808-B5AA-49D3-9B65-D54C4840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289-7478-485D-85C2-68A04287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AD7-FEC0-42BA-BC24-73A42ECF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712-625F-42A4-9C6E-42DB3C69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C5EE-FA25-4D8E-B0D0-BABCEC26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E992-4890-4EF8-9F51-0D5830E4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25FF-B0A5-4785-88C1-053D834F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4748-8E03-49D0-8C42-A2519B3CE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CF55-B082-4EB0-B68A-4875F6C69B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80" y="6583320"/>
            <a:ext cx="28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МЦСЭИ «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ahoma"/>
              </a:rPr>
              <a:t>Леонтьевский центр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860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3828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titul2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ограмма «Городское управление» в 2006 го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80" y="6583320"/>
            <a:ext cx="28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МЦСЭИ «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ahoma"/>
              </a:rPr>
              <a:t>Леонтьевский центр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600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бор и описание гор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144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Содержание учебного процесса по модулю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743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Знакомство с материалами для чт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352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накомство с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учебным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мер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11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суждение актуальных вопросов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Дискуссионном форум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18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олнение практического зада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943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хождение проверочного интерактивного тест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Прослушивание участниками лекц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ограмма «Городское управление» в 2006 го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0" y="6583320"/>
            <a:ext cx="28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МЦСЭИ «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ahoma"/>
              </a:rPr>
              <a:t>Леонтьевский центр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9144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Заключительные задания по курс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98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хождение контрольного тес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048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олнение курсового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038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полнение формы по оценке кур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ограмма «Городское управление» в 2006 го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80" y="6583320"/>
            <a:ext cx="28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МЦСЭИ «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ahoma"/>
              </a:rPr>
              <a:t>Леонтьевский центр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9144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Системные требования к компьютер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581280"/>
            <a:ext cx="9144000" cy="23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Программное обеспечение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dows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95, 98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T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4, 2000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нтернет Эксплорер 4 и выше или Нетскейп Навигатор 4 и выш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айкрософ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фи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Word, Powerpoint), Acrobat R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82880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Arial"/>
              </a:rPr>
              <a:t>Минимальная конфигурация компьютер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нтиум 166, 64 Мб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M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D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OM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Звуковая карта, колон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43828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26989" t="12736" r="1857" b="36147"/>
          <a:stretch/>
        </p:blipFill>
        <p:spPr>
          <a:xfrm>
            <a:off x="152280" y="304920"/>
            <a:ext cx="87631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3385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954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5835" t="12569" r="0" b="5428"/>
          <a:stretch/>
        </p:blipFill>
        <p:spPr>
          <a:xfrm>
            <a:off x="152280" y="152280"/>
            <a:ext cx="8763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3432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25066" t="12736" r="0" b="7982"/>
          <a:stretch/>
        </p:blipFill>
        <p:spPr>
          <a:xfrm>
            <a:off x="228600" y="152280"/>
            <a:ext cx="876312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39544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25195" t="12736" r="1853" b="5418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39544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5066" t="12736" r="1857" b="5418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3954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5195" t="12736" r="1857" b="7859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3385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954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5835" t="12569" r="0" b="5428"/>
          <a:stretch/>
        </p:blipFill>
        <p:spPr>
          <a:xfrm>
            <a:off x="152280" y="152280"/>
            <a:ext cx="8763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Характеристика участников курс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2004-2005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19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Место работы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По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828800"/>
            <a:ext cx="22860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981080"/>
            <a:ext cx="297180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рганы исполнительной и законодательной власти – 17 че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государственные общественные и др. организации, проекты – 15 че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ысшие учебные заведения – 4 че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1981080"/>
            <a:ext cx="2819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Женщины – 11 че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ужчины – 25 че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80" y="6583320"/>
            <a:ext cx="28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МЦСЭИ «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ahoma"/>
              </a:rPr>
              <a:t>Леонтьевский центр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9544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412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1468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7156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5835" t="10172" r="0" b="5217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82412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1468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3912" t="10172" r="0" b="5217"/>
          <a:stretch/>
        </p:blipFill>
        <p:spPr>
          <a:xfrm>
            <a:off x="228600" y="228600"/>
            <a:ext cx="8610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82412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5835" t="12736" r="0" b="5418"/>
          <a:stretch/>
        </p:blipFill>
        <p:spPr>
          <a:xfrm>
            <a:off x="304920" y="22860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3385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954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5835" t="12569" r="0" b="5428"/>
          <a:stretch/>
        </p:blipFill>
        <p:spPr>
          <a:xfrm>
            <a:off x="152280" y="152280"/>
            <a:ext cx="8763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7715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5835" t="12736" r="0" b="7982"/>
          <a:stretch/>
        </p:blipFill>
        <p:spPr>
          <a:xfrm>
            <a:off x="304920" y="304920"/>
            <a:ext cx="8610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82412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5835" t="12736" r="0" b="5418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5835" t="12736" r="0" b="5418"/>
          <a:stretch/>
        </p:blipFill>
        <p:spPr>
          <a:xfrm>
            <a:off x="228600" y="228600"/>
            <a:ext cx="8610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7156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7156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1468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3912" t="12736" r="0" b="5418"/>
          <a:stretch/>
        </p:blipFill>
        <p:spPr>
          <a:xfrm>
            <a:off x="30492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715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1468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3912" t="12736" r="0" b="5418"/>
          <a:stretch/>
        </p:blipFill>
        <p:spPr>
          <a:xfrm>
            <a:off x="228600" y="228600"/>
            <a:ext cx="8610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9068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7156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5835" t="12736" r="0" b="5418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Характеристика участников курс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2004-2005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9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Страны и город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209680"/>
            <a:ext cx="23619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лекс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рхангельс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зержинск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имитровгра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Екатеринбур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Елабуг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жевс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азан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алинигра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5486400"/>
            <a:ext cx="17528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кра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ердянс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2895480"/>
            <a:ext cx="2133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ыргызст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ишке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191120"/>
            <a:ext cx="17528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олд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ишине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1676520"/>
            <a:ext cx="15238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руз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билис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2209680"/>
            <a:ext cx="1981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емеро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ичуринс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оск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аход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. Новгоро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нинс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ерм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етрозаводс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2209680"/>
            <a:ext cx="19814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кр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-Петербур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ургу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вер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ольят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омс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Юж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Ярослав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15080" y="167652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ос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" y="6583320"/>
            <a:ext cx="28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МЦСЭИ «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ahoma"/>
              </a:rPr>
              <a:t>Леонтьевский центр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82412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1468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5895" t="12736" r="0" b="5418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3385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954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5835" t="12569" r="0" b="5428"/>
          <a:stretch/>
        </p:blipFill>
        <p:spPr>
          <a:xfrm>
            <a:off x="152280" y="152280"/>
            <a:ext cx="8763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54296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5477" t="11826" r="0" b="5034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82412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5835" t="12736" r="0" b="5418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88604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8604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412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5835" t="12653" r="0" b="5423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82412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5835" t="12736" r="0" b="5418"/>
          <a:stretch/>
        </p:blipFill>
        <p:spPr>
          <a:xfrm>
            <a:off x="380880" y="533520"/>
            <a:ext cx="8458200" cy="55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88604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7755" t="12736" r="1702" b="5418"/>
          <a:stretch/>
        </p:blipFill>
        <p:spPr>
          <a:xfrm>
            <a:off x="228600" y="228600"/>
            <a:ext cx="8610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080" y="6583320"/>
            <a:ext cx="28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МЦСЭИ «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ahoma"/>
              </a:rPr>
              <a:t>Леонтьевский центр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860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3828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titul2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ценка курса участниками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2004-2005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9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80" y="6583320"/>
            <a:ext cx="28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МЦСЭИ «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ahoma"/>
              </a:rPr>
              <a:t>Леонтьевский центр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990720"/>
            <a:ext cx="9144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«…большая просьба – в регионе, на периферии существует огромная потребность в такого рода добром деле – не прерывайте курсов! более того, полагаю, что этот форум может стать постоянно действующим – мэр любого малого, среднего города СНГ (и не только), иные служащие местных органов власти опыт, обмены, советы муниципалов могут использовать как своеобразную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корую помощ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в самоуправлении, ведя открытый диалог, консультируясь, обучаясь, находя партнеров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800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«Предлагаю на базе этой платформы (если это возможно технически) организовать постоянный дискуссионный форум по проблемам городского управления для «старых» и новых участников курса»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ограмма «Городское управление» в 2006 го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1814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роки обучения: 16 января –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25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июня 2006 г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80" y="6583320"/>
            <a:ext cx="28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МЦСЭИ «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ahoma"/>
              </a:rPr>
              <a:t>Леонтьевский центр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438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Курс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: Управление финансами (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модуля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3716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Курс 1: Основы городского управления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(4 модуля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6576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Курс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: Городское развитие по отдельным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направлениям (5 модулей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ограмма «Городское управление» в 2006 го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роки обучения: 16 Января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3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2006 г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80" y="6583320"/>
            <a:ext cx="28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МЦСЭИ «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ahoma"/>
              </a:rPr>
              <a:t>Леонтьевский центр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3716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Курс 1: Основы городского управления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(4 модуля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09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Модуль 1. Новые перспективы в развитии горо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105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Модуль 4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ль государственного сектора и гражданского общества в 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азвит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социально-ответственного бизнес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038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Модуль 3. Управление изменениями: повышение организационной эффективнос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048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Модул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Стратегический план города и местное экономическое развит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ограмма «Городское управление» в 2006 го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105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Сроки обучения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рт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Апрел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 г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80" y="6583320"/>
            <a:ext cx="28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МЦСЭИ «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ahoma"/>
              </a:rPr>
              <a:t>Леонтьевский центр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3716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Курс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Управление финансами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(3 модуля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209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Модуль 1. Мобилизация ресурс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038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Модуль 3. Муниципальный бюдж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048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Модул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Партнерство между государственным и частным сектор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ограмма «Городское управление» в 2006 го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943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Сроки обучения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Апреля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Июн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 г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80" y="6583320"/>
            <a:ext cx="28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МЦСЭИ «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ahoma"/>
              </a:rPr>
              <a:t>Леонтьевский центр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30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Курс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Городское развитие по отдельным направлениям (5 модулей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43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Модуль 1. Городская земля, недвижимость и жилой фонд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809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Модуль 3. Городская сред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12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Модул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Городской транспор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57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Модуль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Городская бедность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257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Модуль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Гендерные вопрос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ограмма «Городское управление» в 2006 го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791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Сроки обучения: 16 Января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рт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006 г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80" y="6583320"/>
            <a:ext cx="28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МЦСЭИ «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ahoma"/>
              </a:rPr>
              <a:t>Леонтьевский центр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3716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Курс 1: Основы городского управления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(4 модуля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209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Модуль 1. Новые перспективы в развитии горо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105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Модуль 4. Развитие социально-ответственного бизнес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038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Модуль 3. Управление изменениями: повышение организационной эффективнос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048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Модул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Стратегический план города и местное экономическое развит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09:17:43Z</dcterms:created>
  <dc:creator>Nick Zhunda</dc:creator>
  <dc:description/>
  <dc:language>en-US</dc:language>
  <cp:lastModifiedBy>Русецкая Ольга</cp:lastModifiedBy>
  <dcterms:modified xsi:type="dcterms:W3CDTF">2005-10-19T08:08:58Z</dcterms:modified>
  <cp:revision>208</cp:revision>
  <dc:subject/>
  <dc:title>Презентация PowerPoint</dc:title>
</cp:coreProperties>
</file>