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6ABA-3047-4F44-9322-E28A090B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B124-BCFA-4604-956F-1DDCD573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83F-37D4-46B2-8590-8971FE17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E3D-5475-4CC3-9357-94FB8544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BDA9-A591-466D-8E64-46A5D425C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14E6-A569-4357-AFD0-FFA1A7CE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6C41-F2E8-406B-A87D-06A2AA55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97D1-EFF1-4DC7-8F0A-62BE0266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E3B9-9D73-4808-997B-B5C13CA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707-0322-4CD6-8522-A177A2B1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EBE4-F633-4614-B74D-7F315E41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FFE3-9071-478F-99B5-46FEEFF6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72BB-6A5C-43E9-94DE-A84215E6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62C4-E1FC-4E89-8FDE-98089D27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CB20-7C3B-4BF1-AE49-04B022C2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2F6F-12FC-4851-B7A7-533FEE4DB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25A5F-D6BC-4361-AF9B-C870B13C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7BB4-4E22-4CF1-A975-8F533CE9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40CF-9BE4-4878-9A9E-1FD25E0A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96C6-17CA-46B9-A0BE-9FEBA9A3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0F4E-6684-491D-A306-D4E579EA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E061-2D65-4622-A334-B60B47B3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498-C038-4434-8DC5-BEAFCFD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A05F-67CE-4D06-84FE-8B848D69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2280" y="5562720"/>
            <a:ext cx="19051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AE44-AFD6-4CFA-84AC-02CD14C90083}" type="datetime">
              <a:rPr b="0" lang="ru-RU" sz="1400" spc="-1" strike="noStrike">
                <a:solidFill>
                  <a:srgbClr val="009999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1920" y="5866920"/>
            <a:ext cx="2590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060F-5C25-4B41-B6EB-81B82217D576}" type="slidenum">
              <a:rPr b="0" lang="ru-RU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>
            <a:hlinkClick r:id="" action="ppaction://hlinkshowjump?jump=firstslide"/>
          </p:cNvPr>
          <p:cNvSpPr/>
          <p:nvPr/>
        </p:nvSpPr>
        <p:spPr>
          <a:xfrm>
            <a:off x="6248520" y="647712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Перейти на первую страницу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00120" y="170820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7580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" name="">
            <a:hlinkClick r:id="" action="ppaction://hlinkshowjump?jump=firstslide"/>
          </p:cNvPr>
          <p:cNvSpPr/>
          <p:nvPr/>
        </p:nvSpPr>
        <p:spPr>
          <a:xfrm>
            <a:off x="6248520" y="647712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Arial"/>
              </a:rPr>
              <a:t>Перейти на первую страницу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152280" y="54860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AF2D-AD6C-46B3-9F20-48E431EC5D71}" type="datetime">
              <a:rPr b="0" lang="ru-RU" sz="1400" spc="-1" strike="noStrike">
                <a:solidFill>
                  <a:srgbClr val="009999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151920" y="5791320"/>
            <a:ext cx="26672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43D1-804F-4E3A-8172-DC2D984319AE}" type="slidenum">
              <a:rPr b="0" lang="ru-RU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Мониторинг реализации Концепции социально-экономического развития Республики Карелия</a:t>
            </a:r>
            <a:br>
              <a:rPr sz="4000"/>
            </a:b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2004 год</a:t>
            </a:r>
            <a:br>
              <a:rPr sz="4000"/>
            </a:br>
            <a:br>
              <a:rPr sz="4000"/>
            </a:br>
            <a:r>
              <a:rPr b="1" lang="en-US" sz="2000" spc="-1" strike="noStrike">
                <a:solidFill>
                  <a:srgbClr val="ff0000"/>
                </a:solidFill>
                <a:latin typeface="Arial Narrow"/>
              </a:rPr>
              <a:t>monitor – </a:t>
            </a:r>
            <a:r>
              <a:rPr b="1" lang="ru-RU" sz="2000" spc="-1" strike="noStrike">
                <a:solidFill>
                  <a:srgbClr val="ff0000"/>
                </a:solidFill>
                <a:latin typeface="Arial Narrow"/>
              </a:rPr>
              <a:t>(пер. с лат.) тот кто предупреждает</a:t>
            </a:r>
            <a:br>
              <a:rPr sz="2000"/>
            </a:br>
            <a:br>
              <a:rPr sz="2000"/>
            </a:br>
            <a:r>
              <a:rPr b="1" i="1" lang="ru-RU" sz="2000" spc="-1" strike="noStrike">
                <a:solidFill>
                  <a:srgbClr val="336699"/>
                </a:solidFill>
                <a:latin typeface="Arial Narrow"/>
              </a:rPr>
              <a:t>Петрозаводск, Республика Карелия</a:t>
            </a:r>
            <a:br>
              <a:rPr sz="2000"/>
            </a:br>
            <a:r>
              <a:rPr b="1" i="1" lang="ru-RU" sz="2000" spc="-1" strike="noStrike">
                <a:solidFill>
                  <a:srgbClr val="336699"/>
                </a:solidFill>
                <a:latin typeface="Arial Narrow"/>
              </a:rPr>
              <a:t>Институт экономики, Карельский научный центр РАН</a:t>
            </a:r>
            <a:endParaRPr b="1" lang="en-US" sz="2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5E53-1BFC-4AA3-A537-75BD767DF1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E4D7E-E965-4308-92C7-9B1493C103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Соотношение</a:t>
            </a: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добавленной стоимости и промежуточного потребления в валовом выпуске промышленности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66680" y="1600200"/>
          <a:ext cx="762012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00200"/>
                    <a:ext cx="7620120" cy="464832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4DE-07A8-45EF-B9F6-E7348D15377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D4643-C725-4C4D-BA0E-66C15B494F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57040" y="3808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Товарная</a:t>
            </a:r>
            <a:r>
              <a:rPr b="1" lang="ru-RU" sz="66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структура экспорта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066680" y="1641600"/>
          <a:ext cx="7620120" cy="46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41600"/>
                    <a:ext cx="7620120" cy="461628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F5FC-AF58-46BD-98BF-618209B8340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09CDCB0-E9FB-4C49-93A6-5670E0C71D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7315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Динамика Индекса развития человеческого потенциала Карелии за 1998-2004 годы 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(методика ООН)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90720" y="1752480"/>
          <a:ext cx="7848360" cy="45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848360" cy="451656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153-A94E-4EFF-AAF6-89C614C08C1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DA93C-1D47-4312-A73A-1F0ACB56A6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212240" cy="121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Выбор целевых групп для определения эффективности проводимой политики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2133360"/>
            <a:ext cx="7010280" cy="381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Группы выигравшие от реформ (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элита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Группы проигравшие (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объект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социальной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защиты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Группы которые могут заплатить за дальнейшие социальные преобразования («</a:t>
            </a:r>
            <a:r>
              <a:rPr b="1" i="1" lang="ru-RU" sz="2400" spc="-1" strike="noStrike">
                <a:solidFill>
                  <a:srgbClr val="009999"/>
                </a:solidFill>
                <a:latin typeface="Arial"/>
              </a:rPr>
              <a:t>средний класс</a:t>
            </a:r>
            <a:r>
              <a:rPr b="1" lang="ru-RU" sz="2400" spc="-1" strike="noStrike">
                <a:solidFill>
                  <a:srgbClr val="009999"/>
                </a:solidFill>
                <a:latin typeface="Arial"/>
              </a:rPr>
              <a:t>»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3D3-D8FC-44E0-9A33-354CFF93C84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2E1C1-C2B1-45E2-B945-C75009E168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«Классовая» структура общества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905120" y="1793880"/>
          <a:ext cx="6781680" cy="437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793880"/>
                    <a:ext cx="6781680" cy="437832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A3E2-0578-4000-9D18-A1D350C8518F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6A02D1-506F-46C7-8EDE-23F6C0CCEE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Экономическая структура общества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066680" y="1066680"/>
          <a:ext cx="7925040" cy="516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066680"/>
                    <a:ext cx="7925040" cy="516276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55A8-89E2-49A5-8574-2CA1C4479103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0E6BD4-B552-4286-9C1B-063F70CE9C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7760" y="53316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Новые форматы</a:t>
            </a:r>
            <a:r>
              <a:rPr b="0" lang="ru-RU" sz="3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3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Предъявлены новые стандарты и форматы  управления, задаваемые внешней средой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Природа объекта управления и его адаптационный потенциал определяют логику управления (в том числе способность восприятия инноваций)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В соответствии с предъявляемыми требованиями и внутренними ожиданиями субъект управления вынужден осуществлять действия соответствующего качества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A452-7E2D-49F3-8835-004A16D6ADD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74442-6776-4E22-9DD2-BCCD7CC6FC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581280" y="5331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Планирование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9810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перехода к инновационному этапу (структурных изменений экономики, окончание переходного периода, процесса замещения устаревших технологий альтернативными и т.д.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экономической структуры общества и модели потребления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2AB7-3DD4-442A-B3A5-1EC82A9FA55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2F7A6-252B-4666-B0AC-FDF3D2EE03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33720" y="620280"/>
            <a:ext cx="647856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Система управленческих документов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14400" y="1143000"/>
          <a:ext cx="76201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6201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1DF-5950-4B6E-A9D3-73D680A9A50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73C47-B91E-4EF9-97B2-A772022D9B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507960" y="2225520"/>
          <a:ext cx="823608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2225520"/>
                    <a:ext cx="8236080" cy="4051440"/>
                  </a:xfrm>
                  <a:prstGeom prst="rect">
                    <a:avLst/>
                  </a:prstGeom>
                  <a:ln w="5724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619360" y="3124080"/>
            <a:ext cx="847800" cy="2764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67160" y="3400560"/>
            <a:ext cx="866880" cy="856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34040" y="4724280"/>
            <a:ext cx="1085760" cy="20016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419800" y="4571640"/>
            <a:ext cx="1457280" cy="152280"/>
          </a:xfrm>
          <a:prstGeom prst="line">
            <a:avLst/>
          </a:prstGeom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34080" y="5934240"/>
            <a:ext cx="1380960" cy="85680"/>
          </a:xfrm>
          <a:prstGeom prst="line">
            <a:avLst/>
          </a:prstGeom>
          <a:ln w="7632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105680" y="5705280"/>
            <a:ext cx="1361880" cy="228600"/>
          </a:xfrm>
          <a:prstGeom prst="line">
            <a:avLst/>
          </a:prstGeom>
          <a:ln w="7632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67160" y="4924440"/>
            <a:ext cx="86688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1447920"/>
            <a:ext cx="3809880" cy="1600200"/>
          </a:xfrm>
          <a:prstGeom prst="cloudCallout">
            <a:avLst>
              <a:gd name="adj1" fmla="val 46958"/>
              <a:gd name="adj2" fmla="val 154263"/>
            </a:avLst>
          </a:prstGeom>
          <a:gradFill rotWithShape="0">
            <a:gsLst>
              <a:gs pos="0">
                <a:srgbClr val="005c5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 Narrow"/>
              </a:rPr>
              <a:t>Сценарий возрождения Карелии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52388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000"/>
                </a:solidFill>
                <a:latin typeface="Arial"/>
              </a:rPr>
              <a:t>период стабилизации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4800600"/>
            <a:ext cx="685800" cy="1066680"/>
          </a:xfrm>
          <a:prstGeom prst="upDownArrow">
            <a:avLst>
              <a:gd name="adj1" fmla="val 50000"/>
              <a:gd name="adj2" fmla="val 45365"/>
            </a:avLst>
          </a:prstGeom>
          <a:solidFill>
            <a:srgbClr val="ff6600"/>
          </a:solidFill>
          <a:ln w="255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7CC8-4A9B-4BCD-933D-C115FC264F4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7AE1C-A709-47D4-8AEE-6C616E5B3D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507960" y="2225520"/>
          <a:ext cx="8236080" cy="405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2225520"/>
                    <a:ext cx="8236080" cy="4051440"/>
                  </a:xfrm>
                  <a:prstGeom prst="rect">
                    <a:avLst/>
                  </a:prstGeom>
                  <a:ln w="5724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619360" y="3124080"/>
            <a:ext cx="847800" cy="2764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67160" y="3400560"/>
            <a:ext cx="866880" cy="8568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334040" y="4724280"/>
            <a:ext cx="1085760" cy="20016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419800" y="4571640"/>
            <a:ext cx="1457280" cy="152280"/>
          </a:xfrm>
          <a:prstGeom prst="line">
            <a:avLst/>
          </a:prstGeom>
          <a:ln w="7632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34080" y="5934240"/>
            <a:ext cx="1380960" cy="85680"/>
          </a:xfrm>
          <a:prstGeom prst="line">
            <a:avLst/>
          </a:prstGeom>
          <a:ln w="7632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105680" y="5705280"/>
            <a:ext cx="1361880" cy="228600"/>
          </a:xfrm>
          <a:prstGeom prst="line">
            <a:avLst/>
          </a:prstGeom>
          <a:ln w="7632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67160" y="4924440"/>
            <a:ext cx="866880" cy="0"/>
          </a:xfrm>
          <a:prstGeom prst="line">
            <a:avLst/>
          </a:prstGeom>
          <a:ln w="381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1447920"/>
            <a:ext cx="3809880" cy="1600200"/>
          </a:xfrm>
          <a:prstGeom prst="cloudCallout">
            <a:avLst>
              <a:gd name="adj1" fmla="val 46958"/>
              <a:gd name="adj2" fmla="val 154263"/>
            </a:avLst>
          </a:prstGeom>
          <a:gradFill rotWithShape="0">
            <a:gsLst>
              <a:gs pos="0">
                <a:srgbClr val="005c5c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 Narrow"/>
              </a:rPr>
              <a:t>Сценарий возрождения Карелии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10000"/>
                </a:solidFill>
                <a:latin typeface="Arial"/>
              </a:rPr>
              <a:t>период стабилизации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3B5-D9F7-41DB-BB07-186301CDA29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25B40-ADA9-4310-B292-E11BCA7CD3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0560" y="60912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Итоги 2003-2004 гг.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3520" y="1828440"/>
            <a:ext cx="73803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Достигнут определенный экономический и инвестиционный рост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Проявились признаки стабилизации, симптомы того, что происходит структурный сдвиг в сторону новой экономики, способной жить и выживать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Однако большинство экономических рисков сохранилось.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99"/>
                </a:solidFill>
                <a:latin typeface="Arial Narrow"/>
              </a:rPr>
              <a:t>Но рост экономики пока неустойчив, модернизация и реструктуризация не произведены.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8D76-D09B-440C-90C5-BD29E200C1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B4F42-B946-47CA-AB85-A0F9918DA0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Экономика Республики Карелия в 2004 году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РП увеличился более чем на 6%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Рост промышленного производства составил 9.3%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Инвестиции в основной капитал выросли на 12.8%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Оборот розничной торговли – на 12.5%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Внешнеторговый оборот – на 21,4%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99"/>
                </a:solidFill>
                <a:latin typeface="Arial"/>
              </a:rPr>
              <a:t>Индекс потребительских цен на товары и услуги - на 11.1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B4C-D502-4F94-9D9F-22219494B83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5EE002-012C-4CF1-9D78-FE6105148B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Интегральный критерий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28600" y="1676520"/>
          <a:ext cx="8763120" cy="480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763120" cy="4800600"/>
                  </a:xfrm>
                  <a:prstGeom prst="rect">
                    <a:avLst/>
                  </a:prstGeom>
                  <a:ln w="0">
                    <a:solidFill>
                      <a:srgbClr val="009999"/>
                    </a:solidFill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F29-924A-4368-A65D-3FA8CAFE097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74A39-E98A-4BE1-BF5B-5EC2ADA3C7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609480" y="152280"/>
          <a:ext cx="8229600" cy="632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280"/>
                    <a:ext cx="8229600" cy="632484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828800" y="914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Мурманская область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22860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Республика Коми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8006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г.Санкт-Петербург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2952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Вологодская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область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914400"/>
            <a:ext cx="1447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Новгородская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область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213372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Ленинградская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область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4800600"/>
            <a:ext cx="1371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Архангельская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область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419720"/>
            <a:ext cx="1828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Калиниградская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область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77120" y="3429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Псковская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10000"/>
                </a:solidFill>
                <a:latin typeface="Times New Roman"/>
              </a:rPr>
              <a:t>область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2743200"/>
            <a:ext cx="175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000"/>
                </a:solidFill>
                <a:latin typeface="Times New Roman"/>
              </a:rPr>
              <a:t>Республика Карелия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114300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38480" y="411480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29000" y="312408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312408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3352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3526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1148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762120"/>
            <a:ext cx="1143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10000"/>
                </a:solidFill>
                <a:latin typeface="Times New Roman"/>
              </a:rPr>
              <a:t>2001   2003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1447560"/>
            <a:ext cx="533520" cy="1600200"/>
          </a:xfrm>
          <a:prstGeom prst="line">
            <a:avLst/>
          </a:prstGeom>
          <a:ln w="2556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1447920"/>
            <a:ext cx="0" cy="2590560"/>
          </a:xfrm>
          <a:prstGeom prst="line">
            <a:avLst/>
          </a:prstGeom>
          <a:ln w="2556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4267080" y="1447920"/>
            <a:ext cx="152640" cy="2590560"/>
          </a:xfrm>
          <a:prstGeom prst="line">
            <a:avLst/>
          </a:prstGeom>
          <a:ln w="2556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1447920"/>
            <a:ext cx="228600" cy="1676160"/>
          </a:xfrm>
          <a:prstGeom prst="line">
            <a:avLst/>
          </a:prstGeom>
          <a:ln w="25560">
            <a:solidFill>
              <a:srgbClr val="0099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1143000"/>
            <a:ext cx="228600" cy="2286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289-2AF5-4445-A627-1C2E064F5F2C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AFC3D-A362-4DB0-9E36-A619F91D64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336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Приростные показатели развития 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Карелии и России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295280" y="1523880"/>
          <a:ext cx="7239240" cy="474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523880"/>
                    <a:ext cx="7239240" cy="474048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E4C3-42FF-493F-AB12-4F9696B3736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316D2-2D3E-401F-8777-CEE06E9021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61960" y="3805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Динамика ВРП Карелии и ВВП России </a:t>
            </a:r>
            <a:br>
              <a:rPr sz="2800"/>
            </a:b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(к 1998 году в сопоставимых ценах)</a:t>
            </a:r>
            <a:r>
              <a:rPr b="1" lang="ru-RU" sz="40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143000" y="1752480"/>
          <a:ext cx="7391520" cy="4496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391520" cy="449604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A1EC-20FD-4B19-B6E5-77E3D02889E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7B926-EAB4-4174-867C-2E03AFA670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99"/>
                </a:solidFill>
                <a:latin typeface="Arial Narrow"/>
              </a:rPr>
              <a:t>Численность населения и занятых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143000" y="1676520"/>
          <a:ext cx="7543800" cy="445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7543800" cy="4456080"/>
                  </a:xfrm>
                  <a:prstGeom prst="rect">
                    <a:avLst/>
                  </a:prstGeom>
                  <a:ln w="9360">
                    <a:solidFill>
                      <a:srgbClr val="009999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4727-F3A4-49D6-83A3-AEE31B356A9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AF398-70CD-4358-9889-6B5B7992EC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3T08:57:10Z</dcterms:created>
  <dc:creator>user</dc:creator>
  <dc:description/>
  <dc:language>en-US</dc:language>
  <cp:lastModifiedBy>Жихаревич</cp:lastModifiedBy>
  <dcterms:modified xsi:type="dcterms:W3CDTF">2005-10-20T12:36:33Z</dcterms:modified>
  <cp:revision>90</cp:revision>
  <dc:subject/>
  <dc:title>Мониторинг реализации Концепции социально-экономического развития Республики Карелия </dc:title>
</cp:coreProperties>
</file>