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A06-A6A1-4B14-BA5A-87FB0523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632-4223-42B8-B55F-8503476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6EA-E9BA-4EF2-8494-F88D6DC6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4C3-7CE0-4B24-8800-E802440C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F05-7E23-4C9C-8606-42032E1C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0FB-20D5-4F9C-BCED-2A79643B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3E0-C3C1-4D25-A6AC-C6D73247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D1F-6E33-4798-9046-5005310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AE6-77E1-492D-9301-71B9810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B9A-AF1E-4F9A-BD83-D38A546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045-A866-4519-B8CC-3E109C93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FC5-BB49-47E1-A768-D60BC1E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D332-A258-4D6E-BA1E-7E622AD28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nnt7917_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21337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спользование системы сбалансированных целевых показателей для планирования и оценки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2578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я для участ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твертого общероссийского форума лидеров стратегического планирования «Стратегическое планирование в городах и регионах России: измеряя результат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-21 октября 2005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220680"/>
            <a:ext cx="28195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.С.Синицк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ик управления стратегического планирования мэрии г.Череповца Вологод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нализ показателей ЖКХ. Ремонт доро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8380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48765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429000"/>
            <a:ext cx="487656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267080"/>
            <a:ext cx="487656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33520" y="990720"/>
            <a:ext cx="0" cy="495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94360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791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791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5791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791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1055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267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4290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6668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9051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5791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1066680"/>
            <a:ext cx="3276720" cy="2362320"/>
          </a:xfrm>
          <a:prstGeom prst="borderCallout1">
            <a:avLst>
              <a:gd name="adj1" fmla="val 18750"/>
              <a:gd name="adj2" fmla="val -8333"/>
              <a:gd name="adj3" fmla="val 66666"/>
              <a:gd name="adj4" fmla="val -343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Гипотеза распорядителя бюджетных средств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 зависимости оценки горожанами комфортности проживания от выполнения норматива ремонта дорог (для условий г.Череповца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6095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6095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520" y="1905120"/>
            <a:ext cx="4876560" cy="403848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990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6019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ЕСПЕЧ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209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6360" y="241200"/>
            <a:ext cx="56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Дальнейшие направления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447920"/>
            <a:ext cx="883908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   Развитие системы целевых показателе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    Модернизация системы управления (включая структуру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    Построение системы сбалансированных целевых показателей для сети муниципальных учрежден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.    Внедрение бюджетирования, ориентированного на результа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annt7917_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1371600"/>
            <a:ext cx="281952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895480" y="1371600"/>
            <a:ext cx="281952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1960" y="29196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ханизмы ре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648320"/>
            <a:ext cx="1800000" cy="121896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4" y="0"/>
                </a:lnTo>
                <a:lnTo>
                  <a:pt x="21600" y="10800"/>
                </a:lnTo>
                <a:lnTo>
                  <a:pt x="190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4280" y="4648320"/>
            <a:ext cx="2340000" cy="121896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78" y="0"/>
                </a:lnTo>
                <a:lnTo>
                  <a:pt x="21600" y="10800"/>
                </a:lnTo>
                <a:lnTo>
                  <a:pt x="19578" y="21600"/>
                </a:lnTo>
                <a:lnTo>
                  <a:pt x="0" y="21600"/>
                </a:lnTo>
                <a:lnTo>
                  <a:pt x="202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 сбалансированных целев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29040" y="4648320"/>
            <a:ext cx="1800360" cy="12189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2" y="0"/>
                </a:lnTo>
                <a:lnTo>
                  <a:pt x="21600" y="10800"/>
                </a:lnTo>
                <a:lnTo>
                  <a:pt x="19242" y="21600"/>
                </a:lnTo>
                <a:lnTo>
                  <a:pt x="0" y="21600"/>
                </a:lnTo>
                <a:lnTo>
                  <a:pt x="2358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ртфель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648320"/>
            <a:ext cx="1828800" cy="12189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2" y="0"/>
                </a:lnTo>
                <a:lnTo>
                  <a:pt x="21600" y="10800"/>
                </a:lnTo>
                <a:lnTo>
                  <a:pt x="19242" y="21600"/>
                </a:lnTo>
                <a:lnTo>
                  <a:pt x="0" y="21600"/>
                </a:lnTo>
                <a:lnTo>
                  <a:pt x="2358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73664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0240" y="17222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16640" y="159876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53040" y="173664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6002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4920" y="319896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8120" y="31842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33080" y="306072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80040" y="319896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19440" y="305424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5120" y="3200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72960" y="318564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annt7917_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438280"/>
            <a:ext cx="838224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я система стратегического управления  будет  построена на базе следующих элемен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а страте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балансированных целевых показ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но-проект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тратегического 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1960" y="29196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ханизмы ре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44792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Стратегия - не документ, пылящийся на полке, а настольная книга каждого управленц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annt7917_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annt7917_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1143000"/>
            <a:ext cx="91440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гармоничного развития будущего покол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Здоровый горо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1143000"/>
            <a:ext cx="97128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самореализации горожа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514600"/>
            <a:ext cx="1619280" cy="1003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артнерство в финансирова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514600"/>
            <a:ext cx="1695600" cy="1003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птимизация расходов бюдж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1143000"/>
            <a:ext cx="914400" cy="10033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Обеспечение информацией о деятельности ОМС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962520"/>
            <a:ext cx="152424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структуриз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3962520"/>
            <a:ext cx="175248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витие механизмов участия общества в управлени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ород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962520"/>
            <a:ext cx="175248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вышение эффективности использования земельно-имущественного комплек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562720"/>
            <a:ext cx="190512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кадрами бюджетной 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562720"/>
            <a:ext cx="182880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мпетенций 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вышение качества услу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143000"/>
            <a:ext cx="93492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Формирование кадрового потенциал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143000"/>
            <a:ext cx="91440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бизнес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143000"/>
            <a:ext cx="101628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 условий для комфортног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ожива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удовлетворения потребностей в жиль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3962520"/>
            <a:ext cx="160020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ормирование и реализация  имиджевой политик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562720"/>
            <a:ext cx="182880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остижение высокого уровня мотив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5562720"/>
            <a:ext cx="198108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ормирование культуры, ориентированной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 потребителя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нновации, улуч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Карта стратегии г.Черепов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525780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в области обучения и ро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581280"/>
            <a:ext cx="19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6232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380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требительск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8380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по отношению к финансовым донор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3962520"/>
            <a:ext cx="160020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annt7917_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annt7917_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0" y="1143000"/>
            <a:ext cx="91440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гармоничного развития будущего покол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Здоровый горо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1143000"/>
            <a:ext cx="97128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самореализации горожа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514600"/>
            <a:ext cx="1619280" cy="1003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ртнерство в финансиро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514600"/>
            <a:ext cx="1619280" cy="1003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ация расходов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1143000"/>
            <a:ext cx="914400" cy="10033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Обеспечение информации о деятельности ОМС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562720"/>
            <a:ext cx="190476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кадрами бюджетной сф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5562720"/>
            <a:ext cx="182880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мпетенций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овышение качества услу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143000"/>
            <a:ext cx="93492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Формирование кадрового потенциал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143000"/>
            <a:ext cx="91440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бизнес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143000"/>
            <a:ext cx="101628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 условий для комфортного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ожива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143000"/>
            <a:ext cx="863640" cy="1003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Создание условий для удовлетворения потребностей в жиль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5562720"/>
            <a:ext cx="182880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стижение высокого уровня мо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5562720"/>
            <a:ext cx="1981080" cy="1003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рмирование культуры, ориентирова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требител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новации, улуч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Карта стратегии г.Черепов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25780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в области обучения и ро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581280"/>
            <a:ext cx="19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36232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8380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требительск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8380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по отношению к финансовым донор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609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60948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057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609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9810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962520"/>
            <a:ext cx="152424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структуриз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962520"/>
            <a:ext cx="175248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вышение эффективности использования земельно-имущественного комплек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962520"/>
            <a:ext cx="160020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3962520"/>
            <a:ext cx="175248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звитие механизмов участия общества в управлени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ород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962520"/>
            <a:ext cx="1600200" cy="1003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ормирование и реализация  имиджевой политик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327672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4290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4290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33526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30481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здание  условий для комфортного прож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143000"/>
            <a:ext cx="88390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ценка степени комфортности в микрорайо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ценка степени комфортности проживания по отдель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составляющ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Фактическая обеспеченность условиями прожи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 микрорайо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05120" y="30481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здание  условий для комфортного прож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066680"/>
            <a:ext cx="853416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Оценка степени комфортности проживания по отдельным составляющи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безопас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обеспеченности всеми видами коммуникаций (связь, инженерные, транспор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социальной инфраструктуры (детсады, школы, магазины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экологического благополуч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благоустро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состояния муниципального жилищного фо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оздание  условий для комфортного прож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447920"/>
            <a:ext cx="853416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Оценка состояния муниципального жилищного фонд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оля выполнения капремон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оля жилищного фонда, нуждающегося в капремонт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личество проживающих в ветхом и аварийном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жилищном фон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nnt7917_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оздание  условий для комфортного прож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762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14400"/>
            <a:ext cx="89154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Оценка обеспеченности всеми видами коммуникаций (связь, инженерные, транспорт)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оля ветхих наружных сете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лов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водопровод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электр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газов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личество обращений граждан в диспетчерскую службу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связи с отсутствием услуг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       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отоп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горячей в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холодной в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кан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электроэнер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благоустройства, уборки мест общего пользова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6:38:28Z</dcterms:created>
  <dc:creator>Синицкая</dc:creator>
  <dc:description/>
  <dc:language>en-US</dc:language>
  <cp:lastModifiedBy>Жихаревич</cp:lastModifiedBy>
  <dcterms:modified xsi:type="dcterms:W3CDTF">2005-12-02T10:24:14Z</dcterms:modified>
  <cp:revision>48</cp:revision>
  <dc:subject/>
  <dc:title>Презентация PowerPoint</dc:title>
</cp:coreProperties>
</file>