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532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752-1476-4DCC-8DAB-FE0EB97C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33F-6156-4464-8BF8-1DECAB77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16E-C5F4-43D9-8BA7-8D1825EE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E96-B3BB-447F-B498-0D40A32A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E51-5FC1-4D53-A05B-872A437A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FDA-ED29-4970-BB41-5995ABB8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F15-2CB7-4884-8FC8-F5EA26D8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924-5B98-497E-A321-9B065C0C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EFAB-A370-4659-887D-AA915DFF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7F3-6FD8-4122-B3D1-C664C30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979-C279-4FF1-9DB6-A5E58E56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D3D-9A6F-46AD-83AA-848A539C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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07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9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96A0-EFDF-419E-B932-AA9B611829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915840"/>
            <a:ext cx="9144000" cy="5942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6292800"/>
            <a:ext cx="685800" cy="48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8001000" y="6400800"/>
          <a:ext cx="990720" cy="371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6400800"/>
                    <a:ext cx="9907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990720" y="632448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крепление Возможностей Сети Региональных Бюро Поддержки Программы Тасис в Российской Федерации, EUROPEAID/114754/D/SV/RU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ЕКТ ФИНАНСИРУЕТСЯ ЕВРОПЕЙСКИМ СОЮЗОМ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ПОЛНЯЕТСЯ КОМПАНИЕЙ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UROPEAN PROFILES S.A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971640" y="20952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гиональное Бюро Поддержки –С.-Петербур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lsospb@rol.ru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elrus.cec.eu.int/" TargetMode="External"/><Relationship Id="rId2" Type="http://schemas.openxmlformats.org/officeDocument/2006/relationships/hyperlink" Target="http://www.eur.ru/" TargetMode="External"/><Relationship Id="rId3" Type="http://schemas.openxmlformats.org/officeDocument/2006/relationships/hyperlink" Target="http://www.tacisinfo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1276200"/>
            <a:ext cx="8325000" cy="45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7280" y="1461960"/>
            <a:ext cx="8589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грамма сотрудничества ЕС и РФ (Тасис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П С.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Скорох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520" y="1276200"/>
            <a:ext cx="8325000" cy="45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7280" y="1461960"/>
            <a:ext cx="85899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П С.-Петербур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имир Скорох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айловский пр., 14, офис 32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. (812) 325 08 19 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2 67 0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с (812) 325 08 2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lsospb@rol.r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ww.eucoop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ханизмы финансирования проек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ы федерального и регионального уровня (Программа действ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ы малых проек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партнерства в институциональном строительстве (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PP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омпонен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 сос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консультирования по вопросам полити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ПИР – Поддержка гражданского общества и местных  инициати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рит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инимум 1 партнер из РФ + 1 партнер из 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 от 18 до 24 месяцев, грант 100-200 тыс. Ев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-финансирование партнеров: 20% бюджета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 проектных предложений – начало 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 проектов Программы партнерства в институциональном развитии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Центра муниципальных служб при Конгрессе муниципальных властей РФ (2005-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иление местных организаций по экономическому развитию в сельскохозяйственном секторе (Тамбовская обл., 2005-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й план действий в области туризма и осуществления городских реформ в экономике Новгорода (1999-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ПИР – Ключевые государственные организаци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INNIN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рамма консультирования по вопросам политики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требуют партнера ЕС при подготовке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итель – федеральный или региональный орган власти 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аточно краткого описания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требования о со-финансиров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 проектов Программы Ключевые государственные организации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форма региональной администрации и территориальных образований  в Ленинградской области (2005-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1200240"/>
            <a:ext cx="851544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 Программ соседств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аны на опыте приграничного сотрудничества в рамках ИНТЕРРЕГ и ТАСИС ПГ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рит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правило 1 партнер из РФ + 1 партнер из 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лемая территория в РФ – СПБ, Ленинградская, Мурманская, Архангельская, Калининградская и Псковская области, Карел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ительность, объем, со-финансир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 малых проектов приграничного сотрудничества (7-ой раунд, 200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я развития туризма на Кольском полуострове в Мурманской обла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се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llence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ов для устойчивого развития региона Балтийского мор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я развития устойчивого использования подземных вод в Ленинградской обла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4480" y="1079280"/>
            <a:ext cx="79340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онные ресурс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ьство Европейской Комиссии в Росс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/ англ)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www.delrus.cec.eu.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eur.r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Сайт Региональных бюро поддержки Таси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/ англ)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ww.eucoop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сылки на сайты програм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BPP, Tempus, …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ое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айт проекта по распространению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www.tacisinf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11:44:02Z</dcterms:created>
  <dc:creator>ITAD</dc:creator>
  <dc:description/>
  <dc:language>en-US</dc:language>
  <cp:lastModifiedBy>VS</cp:lastModifiedBy>
  <cp:lastPrinted>2002-04-23T10:02:51Z</cp:lastPrinted>
  <dcterms:modified xsi:type="dcterms:W3CDTF">2005-10-20T14:43:10Z</dcterms:modified>
  <cp:revision>383</cp:revision>
  <dc:subject/>
  <dc:title>No Slide Title</dc:title>
</cp:coreProperties>
</file>