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141-DAAB-4569-8660-7DA656DD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59C-2FEB-447F-9D69-719D0B2C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4394-BB37-46D9-9569-A180E674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FA2-1DD6-4EF9-A62E-54F4552E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E232-F542-41CE-B5E1-52DEE03A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869D-82AC-4E6E-84FC-8743DF60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0C7A-A52A-4A94-BF68-D1EA4767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C108-EC0D-4838-96FF-E7CF2DEF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3734-B197-4A9D-8953-9F969970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9573-AE3E-4745-849A-2E393D1D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7785-5777-426B-B9ED-4580F9B4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EF1-9357-439A-9568-9BBBD926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687F-3CFF-4A86-9762-A3D8BFBB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E255-5A10-4221-8907-0648A197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F5C6-B38C-4DF2-BEC1-9F30B53D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11C0-15D8-429A-A0FC-C84EC9FC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C01A-BC44-4F4C-B6A9-5050624A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0A2-EA3A-4AEC-BED9-28CF6C3E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009-3010-4846-A028-CB463048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7F6-C72A-40B6-8AC8-863DC666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F64-9A4F-4A05-86F0-B13FD31C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7CB-FA68-429F-B583-9A2F85F7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64A-3311-45AB-859C-E509A2FB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E42-35BC-482E-BE55-41034B6A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8A3D-77F8-4FF5-97C3-3A7240FE15D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0488-51DE-4F77-9862-339E12B3898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осле разработки Стратегического плана: индикаторы стратегического развития Петрозаводск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Сухоруков А.С., руководитель Центра перспективного планирования администра-ции Петрозаводск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698400" cy="93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148360" y="5261040"/>
            <a:ext cx="3485880" cy="1596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7675560" y="4254480"/>
          <a:ext cx="146844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5560" y="4254480"/>
                    <a:ext cx="1468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5400" y="2514600"/>
            <a:ext cx="7693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оектируемые эффекты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аспект программирова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10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повышать качество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10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прекратить лоббизм текущих зада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10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от материальных инноваций к инвестициям в «человеческий капитал»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46720" y="783720"/>
            <a:ext cx="820548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дикаторы стратегического развития Петрозаводс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7675560" y="4254480"/>
          <a:ext cx="146844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5560" y="4254480"/>
                    <a:ext cx="1468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5400" y="2514600"/>
            <a:ext cx="7693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ектируемые эффекты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пецпроекты «прорыва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10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К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10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«Русские автобусы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10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гостиница международного клас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10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уриз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10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«Карельский дом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10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«сетевики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10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46720" y="783720"/>
            <a:ext cx="820548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дикаторы стратегического развития Петрозаводс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7675560" y="4254480"/>
          <a:ext cx="146844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5560" y="4254480"/>
                    <a:ext cx="1468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25400" y="2514600"/>
            <a:ext cx="7693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оектируемые эффекты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административный аспек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10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муниципальный сектор как сервисная структур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10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гражданский диалог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46720" y="783720"/>
            <a:ext cx="820548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дикаторы стратегического развития Петрозаводс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7675560" y="4254480"/>
          <a:ext cx="146844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5560" y="4254480"/>
                    <a:ext cx="1468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7675560" y="4254480"/>
          <a:ext cx="146844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5560" y="4254480"/>
                    <a:ext cx="1468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осле разработки Стратегического плана: индикаторы стратегического развития Петрозаводск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Благодарим за внимани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698400" cy="93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48360" y="5261040"/>
            <a:ext cx="3485880" cy="1596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7675560" y="4254480"/>
          <a:ext cx="146844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5560" y="4254480"/>
                    <a:ext cx="1468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25400" y="2514600"/>
            <a:ext cx="7693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8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«Налет стратегического планирования, как загар, быстро сходит…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8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8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46720" y="783720"/>
            <a:ext cx="820548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икаторы стратегического развития Петрозаводс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675560" y="4254480"/>
          <a:ext cx="146844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5560" y="4254480"/>
                    <a:ext cx="1468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25400" y="2514600"/>
            <a:ext cx="7693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8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изнанные эффекты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87480" indent="-5040">
              <a:spcBef>
                <a:spcPts val="901"/>
              </a:spcBef>
              <a:buClr>
                <a:srgbClr val="003366"/>
              </a:buClr>
              <a:buSzPct val="10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аза для продвижения имидж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8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территори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46720" y="783720"/>
            <a:ext cx="820548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икаторы стратегического развития Петрозаводс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675560" y="4254480"/>
          <a:ext cx="146844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5560" y="4254480"/>
                    <a:ext cx="1468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5400" y="2514600"/>
            <a:ext cx="7693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изнанные эффекты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8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- новые идеологем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«конкурентоспособность во внешней среде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«североевропейский город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«туристический центр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«гуманитарный центр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46720" y="783720"/>
            <a:ext cx="820548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дикаторы стратегического развития Петрозаводс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7675560" y="4254480"/>
          <a:ext cx="146844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5560" y="4254480"/>
                    <a:ext cx="1468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2540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изнанные эффекты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- показатели целей управлен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«+» политическая воля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общественный мониторин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«-» неустойчивость -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зависимость от макрофакторов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бюрократиза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46720" y="783720"/>
            <a:ext cx="820548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дикаторы стратегического развития Петрозаводс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дикаторы стратегического развития Петрозаводс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знанные эффекты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реестр целевых програм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+»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воспроизводство стратегического планировани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расширение списка решаемых пробл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-»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проблемы качеств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лоббизм ресурсов на текущую деятельность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преобладание материальных инноваций над инвестициями в «человеческий капитал»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675560" y="4254480"/>
          <a:ext cx="146844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5560" y="4254480"/>
                    <a:ext cx="1468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25400" y="2514600"/>
            <a:ext cx="7693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изнанные эффекты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- модернизированные планы действий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46720" y="783720"/>
            <a:ext cx="820548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дикаторы стратегического развития Петрозаводс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675560" y="4254480"/>
          <a:ext cx="146844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5560" y="4254480"/>
                    <a:ext cx="1468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5400" y="2514600"/>
            <a:ext cx="7693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изнанные эффекты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- территориальное планировани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46720" y="783720"/>
            <a:ext cx="820548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дикаторы стратегического развития Петрозаводс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675560" y="4254480"/>
          <a:ext cx="146844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5560" y="4254480"/>
                    <a:ext cx="1468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25400" y="2514600"/>
            <a:ext cx="7693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оектируемые эффекты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олитико-управленческий аспект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от статистики к общественно-политическому мониторингу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46720" y="783720"/>
            <a:ext cx="820548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дикаторы стратегического развития Петрозаводс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06:43:01Z</dcterms:created>
  <dc:creator>User</dc:creator>
  <dc:description/>
  <dc:language>en-US</dc:language>
  <cp:lastModifiedBy>Жихаревич</cp:lastModifiedBy>
  <dcterms:modified xsi:type="dcterms:W3CDTF">2005-10-20T12:38:58Z</dcterms:modified>
  <cp:revision>132</cp:revision>
  <dc:subject/>
  <dc:title>Петрозаводск в начале  21-го века</dc:title>
</cp:coreProperties>
</file>