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E52-CC5D-44CA-9452-32399B6C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9A9-E3E1-4607-A51A-8AB6F98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663-C4F8-4D5C-BB58-CB70DDF7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B82-9C17-4A03-9B65-18E440B6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C06C-E1B1-4BBF-B595-EEEB55C3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B9F5-5A79-4156-8460-3DCF822B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CD7D-3CD1-4E7C-AC8A-9FBD021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D9D5-9CDC-4105-B764-6432F2DD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0E34-BF78-44FD-BE04-234B0EF4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95C-14A5-4EDC-80D0-49276D9B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18DD-3E66-4A7B-B522-24BC68D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DF8-0904-430C-8358-DB3DDD66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0380-3B80-4C22-9E6C-A3EC228D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D564-388F-4ACB-B4EF-08B06642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AE01-995C-4EBE-9829-C5F1299F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C271-2942-4A54-B60C-D974BE7C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38A4-68AC-45B7-834B-55F73E9B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CE6-10DF-4E1E-8AD2-C945F840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42A-A2A2-4FD1-942D-D2C2984D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8A5-DF4F-456E-AB44-E8E0433B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010-0EEE-47D4-88A7-17A764E2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0DD-692A-4758-831E-9B1D1F13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433-8628-4348-9EBD-98E186C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231-D2CF-4A9F-A52F-0476F54C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05A4-85C1-4CA8-8679-445EF959A40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2AC3-4987-47A5-ADA9-273E4BE4A0B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ОБЩЕСТВЕННОЕ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УЧАСТИЕ В ПРИНЯТИИ ВЛАСТНЫХ РЕШЕНИЙ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-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это непрерывный двунаправленный процесс взаимодействия между общественностью и органами власти, ответственными за подготовку, принятие и исполнение решений, включающий в себя: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меры, способствующие пониманию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нформирование участников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бор мнений и предпочтени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77120" y="4494240"/>
            <a:ext cx="2361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Times New Roman"/>
              </a:rPr>
              <a:t>Основные проблемы общественного участи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А. Власти не хотят участия общественности из-за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 нежелания контрол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 опасаясь некомпетентност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Б. Общественность сама не очень-то желает разбираться в делах власт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014560" cy="2163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600200" y="5105520"/>
            <a:ext cx="632448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Зачем власти общественное участие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3333"/>
                </a:solidFill>
                <a:latin typeface="Times New Roman"/>
              </a:rPr>
              <a:t>Информационные задачи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3333"/>
                </a:solidFill>
                <a:latin typeface="Times New Roman"/>
              </a:rPr>
              <a:t>Задачи «Паблик рилейшнз»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3333"/>
                </a:solidFill>
                <a:latin typeface="Times New Roman"/>
              </a:rPr>
              <a:t>Задачи решения конфликтов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662280"/>
            <a:ext cx="31244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r>
              <a:rPr b="1" lang="en-US" sz="4600" spc="-1" strike="noStrike">
                <a:solidFill>
                  <a:srgbClr val="004c2b"/>
                </a:solidFill>
                <a:latin typeface="Times New Roman"/>
              </a:rPr>
              <a:t>Информационные задачи общественного участия: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204948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95480" y="205704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Диагностика проблем и потребносте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Выявление возможностей альтернативных решени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Оценка последствий различных альтернатив решени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c2b"/>
                </a:solidFill>
                <a:latin typeface="Times New Roman"/>
              </a:rPr>
              <a:t>Задачи «Паблик релейшнз»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33920" y="205704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Легитимизация  роли органа власти, готовящего или рассматривающего  проект реше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Создание доверительного отношения к его деятельност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Блэр Рубл (США)«Управление городами в современном мире» - на семинаре МШПИ, 26 января 2001 г., пос. Репино, СПб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Условием эффективного управления городом является реальное участие жителей в решении его пробле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Интуиция городских политиков и чиновников протестует - феномен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IMBI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ыт  возрождения и развития Амстердама, Барселоны, Портленд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«Мы не думали о городе, мы думали о демократии - и получили великий город» (Д.Соварос, глава совета Барселоны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ЧТО ТАКОЕ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4c2b"/>
                </a:solidFill>
                <a:latin typeface="Times New Roman"/>
              </a:rPr>
              <a:t>ОБЩЕСТВЕННОСТЬ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676520"/>
          <a:ext cx="7543800" cy="464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76520"/>
                    <a:ext cx="75438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Times New Roman"/>
              </a:rPr>
              <a:t>ОБЩЕСТВЕННОСТЬ - ЭТО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678168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одно или несколько физических или юридических лиц,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а также их ассоциации, организации или группы,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за исключением тех, кто принимает решения по данному вопросу в силу служебных обязанностей, представляет органы власти,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или участвует в деятельности на основании контракта с заказчиком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4c2b"/>
                </a:solidFill>
                <a:latin typeface="Times New Roman"/>
              </a:rPr>
              <a:t>НКО, вовлекаемые в общественное участие: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2276640"/>
            <a:ext cx="1981440" cy="412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НКО, воздействие на членов (клиентов) которых решение окажет воздействие сразу после принят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НКО, озабоченные эффективностью решения для общества в целом (окружающей среды, культуры и т.д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НКО, объединяющие предпринимателей, кому решение может принести прибыль или убытк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ПОЛОЖИТЕЛЬНЫЕ СТОРОНЫ ОБЩЕСТВЕННОГО УЧАСТИЯ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1676160"/>
            <a:ext cx="6705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Общественное участие способствует выявлению проблем, потребностей и ценностей (учет мнений разных групп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Общественное участие содействует выработке новых идей, поиску новых решений проблем, оценке альтернатив (рост эффективности социальной политики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Общественное участие - это контроль за действиями власти, путь к предотвращению коррупци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752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Times New Roman"/>
              </a:rPr>
              <a:t>НЕДОСТАТКИ ОБЩЕСТВЕННОГО УЧАСТИЯ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198144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7521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Появление новых многочисленных идей, альтернатив может вызвать закономерную перегрузку органов власти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Возможность получения ошибочной информации в связи с недостаточной экспертной подготовкой участников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Неизбежное увеличение длительности процесса решения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А также увеличение его стоимост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Принципы организации общественного участи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Наличие ясной цел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Необходимость “обратной связи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Альтернативност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Участие общественности на ранних стадиях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дготовки решени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ключенность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аксимального числа представителей затрагиваемых решением интерес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едоставление достаточной информации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 обучение в ходе процесса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ткрытость и контролируем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оцесса общественного участия, реалистичность целей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спользование качественной методической баз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для организации процесса и контроля его результат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Возможные  формы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общественного участия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Программы информирования общественности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Горячий” телефон, Общественные приемные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Опросы, Фокус-группы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Общественные слушания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Рабочие группы по подготовке рекомендаций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Общественное представительство в советах по принятию решений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Интерактивные ТВ и радио дебаты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Гражданский референдум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Голосование по вопросам через СМИ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7896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imes New Roman"/>
              </a:rPr>
              <a:t>Обучение граждан, Техническая поддержка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Times New Roman"/>
              </a:rPr>
              <a:t>Уровни общественного участия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24382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. Гражданское управле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.Делегирование полномочи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. Партнерств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. Учет мнени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. Консульта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6. Информиров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7. «Терапия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8. Манипулиров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Реальные полномочия (Возможность  влиять на решения и их контролироват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«Символическое» участие (скажут и выслушают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тсутствие участия  квази-информац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20826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8:38:42Z</dcterms:created>
  <dc:creator>OPEY A.</dc:creator>
  <dc:description/>
  <dc:language>en-US</dc:language>
  <cp:lastModifiedBy>Olga</cp:lastModifiedBy>
  <cp:lastPrinted>2000-04-10T22:31:14Z</cp:lastPrinted>
  <dcterms:modified xsi:type="dcterms:W3CDTF">2002-04-18T20:08:59Z</dcterms:modified>
  <cp:revision>6</cp:revision>
  <dc:subject/>
  <dc:title>Гражданское участие в формировании прозрачной и открытой власти</dc:title>
</cp:coreProperties>
</file>