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58BF-1096-4C37-A62A-E0B0AFDE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A19C-6EE6-4143-8851-25D886A0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00C0-FCB7-4CF1-BB62-948205C5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BD0A-4301-4B8C-B449-FB83733A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7811-DC90-489B-8E7A-38C11F75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908A-4F4A-49C5-91E8-C58E0549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1345-7546-4ACB-828D-0453EE33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ED16-D395-4CB0-ACAD-89E30D5E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E611-6815-416D-9FA4-137C9E06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55D6-430B-4FAC-8B32-2F0E8D52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0FA1-20F0-44B0-B508-C5603C87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4485-034E-4CC4-AF23-432BD9DE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86B0-111D-4EC1-9C48-CFA46EDE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4DB5-F395-43A1-B757-3C65C945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BF89-5FF6-4896-B99B-589019ED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C3D7-C655-42BC-9D26-5D61025E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95DC-87F3-423B-8E34-2ECCEFB5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CB91-49DC-4F72-A71B-038DFB27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B2AD-2FDB-434B-B83C-5BB78B4E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4E1F-E3C5-4DA7-9613-31EB67B2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B65C-557F-472A-BC88-8FFB14CC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F60F-39B5-4E5F-8929-DBC11486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6EBB-403F-4B6D-85CB-EEF8CB43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0CF0-B163-42A0-98F9-BCF3AC92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3640-4EC8-46E0-88B5-FC98861578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E54C-EB65-47B3-9419-C32310C72C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7e7ff"/>
                </a:solidFill>
                <a:latin typeface="Arial"/>
              </a:rPr>
              <a:t>ВСЕМИРНЫЙ БАНК В РОССИИ:</a:t>
            </a:r>
            <a:br>
              <a:rPr sz="3600"/>
            </a:br>
            <a:r>
              <a:rPr b="1" lang="ru-RU" sz="3600" spc="-1" strike="noStrike">
                <a:solidFill>
                  <a:srgbClr val="b7e7ff"/>
                </a:solidFill>
                <a:latin typeface="Arial"/>
              </a:rPr>
              <a:t>ПРОЕКТЫ ПО ПОДДЕРЖКЕ СТРАТЕГИЧЕСКОГО ПЛАНИРОВАНИЯ </a:t>
            </a:r>
            <a:br>
              <a:rPr sz="3600"/>
            </a:br>
            <a:r>
              <a:rPr b="1" lang="ru-RU" sz="3600" spc="-1" strike="noStrike">
                <a:solidFill>
                  <a:srgbClr val="b7e7ff"/>
                </a:solidFill>
                <a:latin typeface="Arial"/>
              </a:rPr>
              <a:t>И РЕГИОНАЛЬНОГО РАЗВИТИЯ</a:t>
            </a: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ru-RU" sz="2400" spc="-1" strike="noStrike">
                <a:solidFill>
                  <a:srgbClr val="b7e7ff"/>
                </a:solidFill>
                <a:latin typeface="Arial"/>
              </a:rPr>
              <a:t>С.А. ТИТОВ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Arial"/>
              </a:rPr>
              <a:t>СТАРШИЙ ЭКОНОМИСТ ВБ</a:t>
            </a:r>
            <a:br>
              <a:rPr sz="2400"/>
            </a:br>
            <a:r>
              <a:rPr b="0" i="1" lang="ru-RU" sz="2400" spc="-1" strike="noStrike">
                <a:solidFill>
                  <a:srgbClr val="b7e7ff"/>
                </a:solidFill>
                <a:latin typeface="Arial"/>
              </a:rPr>
              <a:t>Октябрь 2005</a:t>
            </a:r>
            <a:br>
              <a:rPr sz="40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7e7ff"/>
                </a:solidFill>
                <a:latin typeface="Arial"/>
              </a:rPr>
              <a:t>ПРОЕКТ: ТЕХНИЧЕСКОЕ СОДЕЙСТВИЕ РЕФОРМИРОВАНИЮ РЕГИОНАЛЬНЫХ ФИНАНСОВ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длен до 2009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несрочное планирование и бюджетирование по результатам на субнациональном уров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держка реформы местного само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модельного законодательства для субнациональных влас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пособий наилучшей практики в сфере управления государственными финанс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ершенствование системы внутреннего ауди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овательные программы для служащих субнациональных органов вл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7e7ff"/>
                </a:solidFill>
                <a:latin typeface="Arial"/>
              </a:rPr>
              <a:t>ТРАСТОВЫЙ ФОНД ПРАВИТЕЛЬСТВА ФИНЛЯНДИИ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равляется В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ства расходуются на найм консульта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держка бюджетной реформы в регионах Северо-Запада до октября 2006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данный момент участвуют Республика Карелия и Республика Ко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ическое содействие реформе муниципальных финансов, включая уровень посел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ершенствование межбюджетных отнош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несрочное планирование и бюджетирование, ориентированное на результа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7e7ff"/>
                </a:solidFill>
                <a:latin typeface="Arial"/>
              </a:rPr>
              <a:t>ДАЛЬНЕЙШИЕ ПОДХОДЫ К СОТРУДНИЧЕСТВУ ПО РАЗВИТИЮ РЕГИОНОВ</a:t>
            </a:r>
            <a:br>
              <a:rPr sz="40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осекторальный подход, проектная  и аналитическая работа, сосредоточенная в небольшом числе регио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едитоспособные регионы- кредитование через Муниципальный фонд и другие возможные проекты без суверенной гарант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прогрессирующих регионов- гранты на конкурсной основе , техническое содействие и при необходимости проектное финанс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относительно бедных регионов- поддержка  разработки и реализации федеральных целевых пр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7e7ff"/>
                </a:solidFill>
                <a:latin typeface="Arial"/>
              </a:rPr>
              <a:t>СТРАТЕГИЯ ДЕЯТЕЛЬНОСТИ ВСЕМИРНОГО БАНКА В РОССИИ НА 2003-2006</a:t>
            </a: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 гг</a:t>
            </a: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9920" y="2209680"/>
            <a:ext cx="861372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лучшение условий предпринимательства и развитие конкурен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вершенствование управления госсектор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мягчение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оциальны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 экологических рис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усматривалась активизация работы в регион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461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7e7ff"/>
                </a:solidFill>
                <a:latin typeface="Arial"/>
              </a:rPr>
              <a:t>ДОКЛАД О ХОДЕ РЕАЛИЗАЦИИ СТРАТЕГИИ ВБ В РОССИИ</a:t>
            </a:r>
            <a:br>
              <a:rPr sz="40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2057040"/>
            <a:ext cx="854064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вые направления сотрудничеств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тие регио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действие в создании частно-государственных партнер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действие России в решении вопросов глобального и регионального (СНГ) знач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10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7e7ff"/>
                </a:solidFill>
                <a:latin typeface="Arial"/>
              </a:rPr>
              <a:t>ИНСТРУМЕНТЫ ПРОЕКТНОЙ РАБОТЫ НА СУБНАЦИОНАЛЬНОМ УРОВНЕ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едиты по поддержке политики развития на субнациональном уровне с суверенной гаранти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вестиционные кредиты и кредиты технического содействия с существенной субнациональной компонентой с суверенной гаранти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нты на конкурсной основе субнациональным властям на поддержку критически важных реформ (кредит выдается федеральным властя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едиты (и другие инструменты, включая гарантии) субнациональным властям и предприятиям без суверенной гарантии- Муниципальный фонд (совместный проект МФК и МБРР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7e7ff"/>
                </a:solidFill>
                <a:latin typeface="Arial"/>
              </a:rPr>
              <a:t>ИНСТРУМЕНТЫ ПРОЕКТНОЙ РАБОТЫ НА СУБНАЦИОНАЛЬНОМ УРОВНЕ</a:t>
            </a:r>
            <a:br>
              <a:rPr sz="40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алитическая работа, сфокусированная на субнациональном уровне (за счет бюджета ВБ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ническое содействие реформам на субнациональном уровне (за счет бюджета ВБ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астовые фонды, направленные на субнациональный уровень, управляемые ВБ, либо управляемые федеральными властями, но средства получены при поддержке В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е развитие других инструментов работы с субнациональными властями без суверенной гарант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7e7ff"/>
                </a:solidFill>
                <a:latin typeface="Arial"/>
              </a:rPr>
              <a:t>ПРОЕКТ: РАЗВИТИЕ БЮДЖЕТНОГО ФЕДЕРАЛИЗМА И РЕФОРМИРОВАНИЕ РЕГИОНАЛЬНЫХ ФИНАНСОВ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ершен в 2004 году, но фонд продолжает функционировать в федеральном бюдже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едит федеральному правительству на осуществление системных реформ управления государственными финансами в регион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ионы участвуют в соревновании за гранты из федерального бюдж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ципы отбо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отб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сквалификационные крите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ка двухэтапных программ реформирования и направлений использования сред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ение программ реформирования в регион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7e7ff"/>
                </a:solidFill>
                <a:latin typeface="Arial"/>
              </a:rPr>
              <a:t>ПРОЕКТ: РАЗВИТИЕ БЮДЖЕТНОГО ФЕДЕРАЛИЗМА И РЕФОРМИРОВАНИЕ РЕГИОНАЛЬНЫХ ФИНАНСОВ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пех проекта был обусловлен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льной политической поддерж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ичием министерства- лидера (Министерство Финансов РФ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интересованностью регионов в системном подходе к реформ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зрачными критериями отбора и соревн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астники проекта, продемонстрировав возможность системного 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атегического подхода к реформе управления государственными финансами, реально выполнив программы реформ и добившись неплохого уровня координации между департаментами администрации, обладают естественными преимуществами в конкуренции на участие в проектах ВБ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7e7ff"/>
                </a:solidFill>
                <a:latin typeface="Arial"/>
              </a:rPr>
              <a:t>МУНИЦИПАЛЬНЫЙ ФОНД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зован в мае 2003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местная инициатива МФК и МБРР по инвестированию в проекты на уровне региона и муниципалитета без суверенной гарант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ь- финансирование критических инвестиционных проектов, развитие коммерциализации и корпоратизации услуг, обеспечение доступа субнациональных партнеров на финансовые ры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7e7ff"/>
                </a:solidFill>
                <a:latin typeface="Arial"/>
              </a:rPr>
              <a:t>МУНИЦИПАЛЬНЫЙ ФОНД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держка инвестиций субнациональных правительств и принадлежащих им предприятий в водоснабжение и канализацию, электрические сети, теплоснабжение, переработку твердых отходов и городской транспор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астно-государственные партнерства, лизинг, контракты на управление, концес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едиты, гарантии (в том числе частичные) выпуска облигаций и кредитов, инвестиции в капит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субнациональном уровне в России ожидается проект (частичная гарантия) с Республикой Чувашия- вынесение на совет директоров Фонда в ноябре 2005 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06:33:23Z</dcterms:created>
  <dc:creator>WB88748</dc:creator>
  <dc:description/>
  <dc:language>en-US</dc:language>
  <cp:lastModifiedBy>WB88748</cp:lastModifiedBy>
  <dcterms:modified xsi:type="dcterms:W3CDTF">2005-10-18T07:29:36Z</dcterms:modified>
  <cp:revision>3</cp:revision>
  <dc:subject/>
  <dc:title>Slide 1</dc:title>
</cp:coreProperties>
</file>