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AC0-5724-4550-814C-81FF9EE4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2C3-B378-4E1A-A88A-935559A2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74F-8193-40FF-B45B-651975D1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3C8-316F-4A48-9008-FF4D232A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070-F433-4133-9BEA-73802D55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F8B-0A33-481B-8C25-5CB8C3A3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3A6-266D-4FB8-8429-F4DFCE92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EA3-5ED4-4F22-803C-089C939D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498-DCAD-43ED-ABDB-AEC31DF6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D6B-E238-4212-B163-0A2DBC86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4D2-CFAE-4115-AD22-3E9BE828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821-D9DB-40AA-8EDA-661620FC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E81B-5675-4C8B-BAA1-6D2E50BB4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lobalcityforum.com/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4529160" cy="5473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58920" y="5950080"/>
            <a:ext cx="723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ждународный Форум для руководителей городов и их партнёров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7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9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мая,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он, Фран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ЕМАТИЧЕСКИЕ ОБЕ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ри обеда ежедневно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-ой и 3-ий дни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вящены трём основным темам форума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ед на 150 человек по предварительной записи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АММИТ МЭРОВ ГОРОДОВ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/2 дн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екрасная возможность для  мэров, руководителей поделиться своими основными проблемами и обсудить последние за закрытыми дверя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аммит даёт возможност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сесторонне обсудить текущие и назревающие проблемы, стоящие перед город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ъединить усилия различных уровней городского управления и национальных, европейских и международных организаци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ойти к общему пониманию основных направлений политики городского управл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981000"/>
            <a:ext cx="9144000" cy="76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0"/>
            <a:ext cx="5867280" cy="990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ограмма конферен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302112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ю форума Глобал Сити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вляется возможность объединить в одном месте и в одно время представительную аудиторию, состоящую из 1 500 руководителей системы городского управления, в частност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борные представители и должностные лица системы городского 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гентства по развитию (экономическому, социальному, международному и стратегическому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тавщики услуг для нужд города (местный и международный уров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ектировщики, архитекторы, специалисты градостроительного проектир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вропейские, национальные и региональные учреждения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родские объединения и ассоциации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ксперты, консультанты, специалисты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астники деловой активности гор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щественные представители, ассоциации, социальные партнё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0"/>
            <a:ext cx="5715000" cy="990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Участники фор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20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0"/>
            <a:ext cx="5715000" cy="990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лючевые фиг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2120" y="2133720"/>
            <a:ext cx="5867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00 руководителей гор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3 городов из 35 стр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0 мэров и заместителей мэ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8 выступающ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11 журналис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20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69608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демонстрировать достижения Вашего города и применяемые им страте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елиться Вашим уникальным опытом и знан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ветить преимущества Вашего города на самом высоком международном уров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ановить деловые международные конта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крыть для себя последние тенденции и нововведения в развитии горо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ти новых партнёр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971800" cy="898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00400" y="0"/>
            <a:ext cx="5943600" cy="990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Цели учас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едставить комплекс решений городского управления и стратегии осуществления городских проектов в программе конференции и во время личных контак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эры: участвовать в саммите мэров городов (закрытое мероприятие для мэров городов со всего света, позволяющее обменяться мнением по ключевым вопросам развит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971800" cy="898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92360" y="0"/>
            <a:ext cx="5651640" cy="990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Цели учас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0"/>
            <a:ext cx="5715000" cy="990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бщение и услу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219320"/>
            <a:ext cx="8353440" cy="1676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редства коммуник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Интернет-сайт Глобал Сити и базы данных 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еальн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globalcityforu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уководство-справочник Глобал Си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и медиа-сре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екламные баннеры и стр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Спонсорские возмож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3048120"/>
            <a:ext cx="8353440" cy="1749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Возможности налаживания контак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Деловые контакты и работа в выставочной з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Официальные мероприятия и общ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неформальной обстанов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осещение сай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Культурная програм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5013360"/>
            <a:ext cx="8353440" cy="15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Организационное обеспеч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Международная пресс-служ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Организация мероприятий частного харак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Мероприятия для почётных гостей. Клу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Деловой цент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Бар. Перерывы на коф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20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160" y="1752480"/>
            <a:ext cx="830556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ставки компании REED MI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50 мероприятий в 32 стран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хват 49 сфер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есто встречи миллионов продавцов и покупателей со всего св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ED MIDEM – Опы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ы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свыше 40 л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ировой лидер в создании и проведении профессиональных международных выстав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рганизатор МИПИМ – Международная выставка недвижимости (в 2005 г. на ней собрались 17 000 профессионалов, включая 1 600 руководителей городов из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стран мир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0"/>
            <a:ext cx="5715000" cy="990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ed Exhib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20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0"/>
            <a:ext cx="5715000" cy="990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ставочная площа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200400" cy="687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1484280"/>
            <a:ext cx="79898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глашаем Вас принять участия в Международном Форуме Городов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obal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0"/>
            <a:ext cx="5715000" cy="990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есто и 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495680"/>
            <a:ext cx="35816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17 – 19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Мая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ворец Конгрес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ité International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ион - Фран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globalcityforu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1828800" cy="1268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934320" y="4597560"/>
            <a:ext cx="200016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3200400" cy="687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286000" y="2819520"/>
            <a:ext cx="441972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2133720"/>
            <a:ext cx="518184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… Я глубоко убеждён, что международный форум Глобал Сити способен позволить нашим городам и их партнёрам продолжить накапливать знания и опыт на сложном и многогранном поприще развития городов во всех аспектах: социальном, урбанистическом, экологическом, культурном и экономическом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Жерар Колл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эр Лио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езидент Лионской агломерации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220968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200400" cy="68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64000" y="0"/>
            <a:ext cx="5580000" cy="990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лобал Сити – международный фору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ля руководителей горо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3200400" cy="687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29000" y="0"/>
            <a:ext cx="5715000" cy="990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лобал Сити – международный фору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ля руководителей горо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никальное место встречи профессионалов городского управления,   успешно благоустраивающих жизнь города, обеспечивающих занятость его населения и привлечение инвестиций для развития город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вый формат мероприятия, способствующий наилучшему обмену опыт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монстрация стратегий, способов, решений городского управления и партнёрства, превращающих наши города в более комфортные места для работы, жизни и деловой актив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81000"/>
            <a:ext cx="9144000" cy="76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200400" cy="687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29000" y="0"/>
            <a:ext cx="5715000" cy="990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ограмма конферен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род устойчивого развития будет рассмотрен через 9 «городских концепций»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трудничающий г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вижение в город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елёный г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мный г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омпактный г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учший город для жиз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ультурный г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цветающий и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ивы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г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Хорошо управляемый г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отрудничающий город: Сотрудничество, обмен опытом и участ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дели государственных заявок на подря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дели участия держателей ак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гентства экономического разви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вижение в город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льтернативные модели движения в городе (ограничение автотранспорта в пользу пешеходных, велосипедных зон и полос для общественного транспорт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кологически чистый транспорт  (использование транспортных средств с низким уровнем потребления топлива и выброса вредных газов, а также новых видов топлив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олее эффективные транспортные развяз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елёный гор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доровая и качественная городская окружающая среда (лесонасаждения, пешеходные зо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тилизация вредных отход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кращение загрязнения окружающей среды (воздух, шумы, вода, состояние почвы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ехнологии и открытия в области защиты окружающей среды (переход от ископаемых к возобновляемым источникам энергии, а также безвредные технологии/строительств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адка зелёных насаждений и разумное потреб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924000" y="-360"/>
            <a:ext cx="5219640" cy="981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ограмма конферен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3200400" cy="68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981000"/>
            <a:ext cx="9144000" cy="76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мный гор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носторонние связи и равные возможности (для экономического роста / управления знаниями / для более тесного сотрудничеств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чественный доступ: многочисленные транспортные развязки, обеспечивающие перемещение материалов и товаров, лёгкий доступ в рабочие помещения, лёгкость получения услу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лучшение системы непрерывного образования (образование / формирование общественного мнения / тренинг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актный город: Уменьшение влияния факторов, сдерживающих городское развит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новление городских центр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учшее управление роста метрополии / региональных сетей / поливалент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сширение альтернативы в области жиль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ношения с застройщиками / инвесторами: поиск пространства для реализации новых проек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местная реализация проек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учший город для жизн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итика социальной интеграции и адап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езопасность в город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оступ к общественным услуга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значимых мест для работы, игр, отдыха (городской дизайн, освещение, городские застройки будущег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995280" y="-360"/>
            <a:ext cx="5148360" cy="981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ограмма конферен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3200400" cy="687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981000"/>
            <a:ext cx="9144000" cy="76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1341000"/>
            <a:ext cx="77738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ультурный гор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культурного наследия и творческих достиже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рупные международные проекты как залог будущего разви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цветающий и красивый гор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атегии экономического возрождения и диверсификации хозяй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атегии инноваций: Система подготовки квалифицированных кадров, солидная научно-исследовательская база, предпринимательский климат, возможности роста для новых участников на рынке (как крупных, так и мелки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спределение результатов ро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ойчивость туристской составляющ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орошо управляемый гор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особы перспективного план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устройство инфраструктуры – восполнение недостатка инвести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нкурентоспособные услуги с учётом водо- и энергоснабжения, связи, транспорта и экономически-эффективного регулирова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3924000" y="-360"/>
            <a:ext cx="5219640" cy="981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ограмма конферен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3200400" cy="687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981000"/>
            <a:ext cx="9144000" cy="76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19720"/>
            <a:ext cx="4114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БЗОРНЫЕ ВЫСТУПЛЕНИЯ И МАСТЕР КЛАССЫ</a:t>
            </a:r>
            <a:r>
              <a:rPr b="1" lang="en-AU" sz="1400" spc="-1" strike="noStrike">
                <a:solidFill>
                  <a:srgbClr val="000000"/>
                </a:solidFill>
                <a:latin typeface="Verdana"/>
              </a:rPr>
              <a:t> (1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.</a:t>
            </a:r>
            <a:r>
              <a:rPr b="1" lang="en-AU" sz="1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A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стер классы: Признанные эксперты в области городского планирования (специалисты городского благоустройства, архитекторы, социологи и т.д.) поделятся своим опытом с присутствующей аудитори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очки зрения: известные личности представят свое видение политики горо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БСУЖДЕНИЕ В КРУГУ ПРОФЕССИОНАЛОВ</a:t>
            </a:r>
            <a:r>
              <a:rPr b="1" lang="en-AU" sz="1400" spc="-1" strike="noStrike">
                <a:solidFill>
                  <a:srgbClr val="000000"/>
                </a:solidFill>
                <a:latin typeface="Verdana"/>
              </a:rPr>
              <a:t> (1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.</a:t>
            </a:r>
            <a:r>
              <a:rPr b="1" lang="en-A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бота каждого семинара будет посвящена одной из 9 тем, заявленных на форуме</a:t>
            </a: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стреча проводится в комнате с 10-ю столами для 10-15 человек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 каждым круглым столом обсуждается отдельный аспект (под-тема) основной тем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пример:</a:t>
            </a: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 «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ранспортная инфраструктура города </a:t>
            </a: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»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-тема</a:t>
            </a: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шеходные зоны, велосипедные дорожки, чистый транспорт, места для парковки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200400" cy="687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05320" y="0"/>
            <a:ext cx="5638680" cy="990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ограмма конферен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0"/>
            <a:ext cx="5867280" cy="990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ограмма конферен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687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341360"/>
            <a:ext cx="85690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637280"/>
            <a:ext cx="828180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НАЛИЗ КОНКРЕТНЫХ ПРИМЕРОВ</a:t>
            </a:r>
            <a:r>
              <a:rPr b="1" lang="en-AU" sz="1400" spc="-1" strike="noStrike">
                <a:solidFill>
                  <a:srgbClr val="000000"/>
                </a:solidFill>
                <a:latin typeface="Verdana"/>
              </a:rPr>
              <a:t> (1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.</a:t>
            </a:r>
            <a:r>
              <a:rPr b="1" lang="en-AU" sz="1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A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A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орода, отобранные по результатам своих достижений в контексте заявленной 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том году темы, представят собственное видение проблем, а также стратегии,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етоды и применяемые способы их реш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рядок информационно-ознакомительных встреч следует стандартному формату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.е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ходное положение, причины, предопределившие выбор того или иного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ешения, реализация (возникающие проблемы, финансирование, взаимо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осударственного и частного секторов, и т.д.), оценка проекта и перспек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льнейшего развит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НТЕРАКТИВНОЕ ОБСУЖДЕНИЕ</a:t>
            </a:r>
            <a:r>
              <a:rPr b="1" lang="en-AU" sz="1400" spc="-1" strike="noStrike">
                <a:solidFill>
                  <a:srgbClr val="000000"/>
                </a:solidFill>
                <a:latin typeface="Verdana"/>
              </a:rPr>
              <a:t> (1/2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.</a:t>
            </a:r>
            <a:r>
              <a:rPr b="1" lang="en-A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бочие встречи на которых представители европейских городов, отобран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ed MIDE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представят применяемые ими инновационные реш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 одновременных рабочих встречи на протяжении целого дня, каждая из котор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вящена одной из тем, заявленных на форум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зможность прямого личного контак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09:24:10Z</dcterms:created>
  <dc:creator>RMADKOURI</dc:creator>
  <dc:description/>
  <dc:language>en-US</dc:language>
  <cp:lastModifiedBy>Жихаревич</cp:lastModifiedBy>
  <dcterms:modified xsi:type="dcterms:W3CDTF">2005-10-27T08:06:20Z</dcterms:modified>
  <cp:revision>221</cp:revision>
  <dc:subject/>
  <dc:title>Présentation PowerPoint</dc:title>
</cp:coreProperties>
</file>