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A06-3D72-4B4E-8F56-F6993589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196-8313-4502-9936-BF9BF897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8E8-856A-499A-B23B-4977E476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213-C936-468D-AE83-17D7E7BE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2AB3-8B1B-4F15-BC11-EA35EB2A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D67B-FF3D-4A9B-8CA1-859ED048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F499-DF67-4852-AC88-B031CDDA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731C-DBB9-4795-B4B4-6FE1239E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F6E0-1885-43B7-9E8B-6608156A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8446-0653-4873-A140-FAB0BA26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FFD2-F821-42F6-BADC-AD5F955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9F5-3724-4924-96C8-C901393B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DAC1-3A2B-40DC-A58F-5E4CAB57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DBF4-95AC-403E-BA33-D7EBBEF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D287-EF40-4E59-8941-B17342AC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B9AA-CACC-4C07-BE1D-E1B50B3C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2E91-2664-44EC-9C9B-9025FC7A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ED9-4F42-4B69-B6AE-D32436D8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8CB-2A56-463D-B048-0977154B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36C-20DE-4A53-82B4-8A1CD6B7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F35-BAAC-413C-8BC6-64D686CF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64B-98E9-453A-A127-ADBF873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F4D-DCF0-47E1-8095-4AC4B84C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822-7F45-49B1-B0CC-584253D7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2081-7299-44EE-AF16-7100B562675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51268" b="8871"/>
          <a:stretch/>
        </p:blipFill>
        <p:spPr>
          <a:xfrm>
            <a:off x="6873840" y="28440"/>
            <a:ext cx="897120" cy="74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832880" y="0"/>
            <a:ext cx="1234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Национальное Агентство                 Прямых                    Инвестиций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19320" y="762120"/>
            <a:ext cx="7924680" cy="0"/>
          </a:xfrm>
          <a:prstGeom prst="line">
            <a:avLst/>
          </a:prstGeom>
          <a:ln w="127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51268" b="8871"/>
          <a:stretch/>
        </p:blipFill>
        <p:spPr>
          <a:xfrm>
            <a:off x="6873840" y="28440"/>
            <a:ext cx="897120" cy="749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832880" y="0"/>
            <a:ext cx="1234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Национальное Агентство                 Прямых                    Инвестиций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19320" y="762120"/>
            <a:ext cx="7924680" cy="0"/>
          </a:xfrm>
          <a:prstGeom prst="line">
            <a:avLst/>
          </a:prstGeom>
          <a:ln w="127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52578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8595-8234-4A82-A056-B6EAF75CC29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06640" y="876240"/>
            <a:ext cx="7532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Привлечение инвестиций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: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Стратегия развития для    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муниципальных образований 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               и регионов России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327560"/>
            <a:ext cx="34498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Вдовин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председател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ционального Агентства прямых инвестиций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17440" y="758880"/>
            <a:ext cx="802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Инвестиционная стратегия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3640" y="1363680"/>
            <a:ext cx="714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4080" indent="-1054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Реализация стратегии (продолжение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30320" y="2363760"/>
            <a:ext cx="7910640" cy="14367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2639880"/>
            <a:ext cx="2409840" cy="90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73520" y="2635200"/>
            <a:ext cx="2409840" cy="90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1960" y="2644920"/>
            <a:ext cx="2409840" cy="90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2080" y="269892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альное описание задач, входящих в программу развития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43280" y="270828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ресурсов, необходимых для решения каждой задач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67400" y="2717640"/>
            <a:ext cx="233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тановка приоритетов  и определение способов финансирования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3000" y="2938320"/>
            <a:ext cx="392040" cy="297000"/>
          </a:xfrm>
          <a:prstGeom prst="rightArrow">
            <a:avLst>
              <a:gd name="adj1" fmla="val 50000"/>
              <a:gd name="adj2" fmla="val 33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07040" y="2948040"/>
            <a:ext cx="392040" cy="296640"/>
          </a:xfrm>
          <a:prstGeom prst="rightArrow">
            <a:avLst>
              <a:gd name="adj1" fmla="val 50000"/>
              <a:gd name="adj2" fmla="val 3304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98520" y="40194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 внедрения инвестиционной стратег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5640" y="4645080"/>
            <a:ext cx="7910280" cy="20318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47760" y="4950000"/>
          <a:ext cx="3672000" cy="1398240"/>
        </p:xfrm>
        <a:graphic>
          <a:graphicData uri="http://schemas.openxmlformats.org/drawingml/2006/table">
            <a:tbl>
              <a:tblPr/>
              <a:tblGrid>
                <a:gridCol w="932040"/>
                <a:gridCol w="366480"/>
                <a:gridCol w="384120"/>
                <a:gridCol w="352440"/>
                <a:gridCol w="401760"/>
                <a:gridCol w="401760"/>
                <a:gridCol w="431640"/>
                <a:gridCol w="40176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 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5468760" y="5484960"/>
            <a:ext cx="11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7160" y="5479920"/>
            <a:ext cx="20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ственны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35400" y="548640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16560" y="54817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04920" y="5108400"/>
            <a:ext cx="1408320" cy="23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43040" y="5546880"/>
            <a:ext cx="1495440" cy="21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6004080"/>
            <a:ext cx="1712880" cy="23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745080"/>
            <a:ext cx="304920" cy="318960"/>
          </a:xfrm>
          <a:prstGeom prst="downArrow">
            <a:avLst>
              <a:gd name="adj1" fmla="val 50000"/>
              <a:gd name="adj2" fmla="val 26151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67320" y="4425840"/>
            <a:ext cx="304560" cy="319320"/>
          </a:xfrm>
          <a:prstGeom prst="downArrow">
            <a:avLst>
              <a:gd name="adj1" fmla="val 50000"/>
              <a:gd name="adj2" fmla="val 2621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D92-122E-41A2-8280-156C8BA9E8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17440" y="801720"/>
            <a:ext cx="766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Инвестиционная стратегия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80960" y="2193840"/>
            <a:ext cx="6807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92200" y="1751040"/>
            <a:ext cx="680724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дание и поддержка независимого Агентства, способного обеспечить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ку  и содействие в реализации оптимальных стратегий                     развития в России и отдельных региона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иск и подготовку перспективных инвестиционных проектов: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ании, отрасли, сектора рынка, регион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иск и подбор зарубежных и российских инвесторов в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ии с целями и задачами инвестиционных проектов 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действие в реализации инвестиционных проектов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е с официальными и неправительственным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ями в России и за рубежом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независимых информационных кампаний 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оприятий в российских и зарубежных СМ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ниторинг, оценка результатов, корректировк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операция на региональном, национальном и международном уровн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даптируемость к переменам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44280" y="1300320"/>
            <a:ext cx="39920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V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Контроль и координация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E5C-AD15-4DC7-A75F-413E48D3F5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2440" y="990720"/>
            <a:ext cx="6956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Национальное Агентство прямых инвестиций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51000" y="5851440"/>
            <a:ext cx="7467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1554120"/>
            <a:ext cx="661032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2a2aa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о как неправительственная организация в форме некоммерческого партнерства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2a2aa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редители: Торгово-промышленная палата России, субъекты и муниципальные образования РФ, Институт ВНИИВЭС Минэкономразвития, ряд профессиональных участников инвестиционного рынк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2a2aa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ладает профессиональным штатом специалистов в области стратегических исследований, страновых и корпоративных стратегий, финансов и пра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2a2aa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ет сеть внешних представительств (США, Великобритания, Западная Европа) и региональных офисов (большинство регионов России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2a2aa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ем привлеченных инвестиционных ресурсов более 400 млн. долл. США (период 1997 – 2002 г.г.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2a2aa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яется основателем и организатором проведения Международного Инвестиционного Симпозиума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2a2aa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сно сотрудничает с ключевыми министерствами и ведомствами, большинством региональных администрац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80000"/>
              </a:lnSpc>
              <a:spcBef>
                <a:spcPts val="1001"/>
              </a:spcBef>
              <a:buClr>
                <a:srgbClr val="2a2aa8"/>
              </a:buClr>
              <a:buSzPct val="12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F93-7212-4553-8DDE-4AFA773DF2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28880" y="863640"/>
            <a:ext cx="788652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Разработка инвестиционной стратегии 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Предпосылки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32080" y="1609560"/>
            <a:ext cx="771192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ионы России предлагаю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квалифицированных специалист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илие полезных ископаемых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ую физическую инфраструктуру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пный потребительский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обеспечить приток капитала и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алансированное развитие регио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разработать разумную инвестиционную стратегию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76280" indent="-28584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дрить ее и осуществлять контроль за ее реализацие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C94-AF35-469F-8C61-98E089C5AF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1017720"/>
            <a:ext cx="747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Для чего нужна стратегия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6760" y="1936800"/>
            <a:ext cx="3706920" cy="43401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34955" dir="292711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95880" y="1946160"/>
            <a:ext cx="3598920" cy="43405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43570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062080"/>
            <a:ext cx="36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ратегия позволяет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53000" y="210024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сутствие стратегии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6160" y="2514600"/>
            <a:ext cx="3525840" cy="32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оставить желания и возможност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рать приоритеты и область концентрации усил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ивать текущее развитие с прогнозом (оценка: как мы развиваемся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о реагировать на изменения во внутренней и внешней сред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адить обмен информацие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ть консенсус ветвей власти и обще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88040" y="2540160"/>
            <a:ext cx="352728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– на основе сиюминутных интерес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ирование – без учета внешних изменен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– только на основе внутренних возможносте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ткосрочный успех и вероятность краха из-за неготовности к изменениям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еря контроля руководством региона над развитием ситу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FCE-07EA-4C64-B9FB-03F4569B9B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3640" y="755640"/>
            <a:ext cx="7662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Этапы разработки и реализации инвестиционной стратегии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58040" y="2355840"/>
            <a:ext cx="1785960" cy="206208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2062080"/>
              <a:gd name="textAreaBottom" fmla="*/ 2062080 h 20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3" y="0"/>
                </a:lnTo>
                <a:lnTo>
                  <a:pt x="21600" y="10800"/>
                </a:lnTo>
                <a:lnTo>
                  <a:pt x="141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3560" y="2368440"/>
            <a:ext cx="1859040" cy="20624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2062440"/>
              <a:gd name="textAreaBottom" fmla="*/ 2062800 h 206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3" y="0"/>
                </a:lnTo>
                <a:lnTo>
                  <a:pt x="21600" y="10800"/>
                </a:lnTo>
                <a:lnTo>
                  <a:pt x="141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97080" y="2363760"/>
            <a:ext cx="1887840" cy="2062080"/>
          </a:xfrm>
          <a:custGeom>
            <a:avLst/>
            <a:gdLst>
              <a:gd name="textAreaLeft" fmla="*/ 0 w 1887840"/>
              <a:gd name="textAreaRight" fmla="*/ 1888200 w 1887840"/>
              <a:gd name="textAreaTop" fmla="*/ 0 h 2062080"/>
              <a:gd name="textAreaBottom" fmla="*/ 2062080 h 20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3" y="0"/>
                </a:lnTo>
                <a:lnTo>
                  <a:pt x="21600" y="10800"/>
                </a:lnTo>
                <a:lnTo>
                  <a:pt x="141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2160" y="2359080"/>
            <a:ext cx="1916280" cy="2062080"/>
          </a:xfrm>
          <a:custGeom>
            <a:avLst/>
            <a:gdLst>
              <a:gd name="textAreaLeft" fmla="*/ 0 w 1916280"/>
              <a:gd name="textAreaRight" fmla="*/ 1916640 w 1916280"/>
              <a:gd name="textAreaTop" fmla="*/ 0 h 2062080"/>
              <a:gd name="textAreaBottom" fmla="*/ 2062080 h 20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3" y="0"/>
                </a:lnTo>
                <a:lnTo>
                  <a:pt x="21600" y="10800"/>
                </a:lnTo>
                <a:lnTo>
                  <a:pt x="141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6080" y="18892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5880" y="1884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78320" y="189396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88200" y="1889280"/>
            <a:ext cx="11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84240" y="3087720"/>
            <a:ext cx="178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60720" y="2930400"/>
            <a:ext cx="1830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ка стратег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67160" y="2930400"/>
            <a:ext cx="1465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зация стратег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42200" y="2930400"/>
            <a:ext cx="1538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троль и координаци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040" y="4494240"/>
            <a:ext cx="16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440" y="5340240"/>
            <a:ext cx="2684520" cy="12740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ка текущего состояния и внутреннего потенциал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 общей стратеги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ение внешнего окружения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7920" y="5103720"/>
            <a:ext cx="2205000" cy="14839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улирование целей и выбор отраслей и проектов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привлечения инвестиций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5840" y="5613480"/>
            <a:ext cx="1828800" cy="971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ация условий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онные кампани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88360" y="5392800"/>
            <a:ext cx="1655640" cy="12708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и поддержка  Агентств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иторинг и оценка,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25840" y="3700440"/>
            <a:ext cx="233280" cy="1379520"/>
          </a:xfrm>
          <a:prstGeom prst="downArrow">
            <a:avLst>
              <a:gd name="adj1" fmla="val 50000"/>
              <a:gd name="adj2" fmla="val 147840"/>
            </a:avLst>
          </a:prstGeom>
          <a:solidFill>
            <a:srgbClr val="ccffcc">
              <a:alpha val="50000"/>
            </a:srgbClr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10240" y="3710160"/>
            <a:ext cx="201600" cy="1319040"/>
          </a:xfrm>
          <a:prstGeom prst="downArrow">
            <a:avLst>
              <a:gd name="adj1" fmla="val 50000"/>
              <a:gd name="adj2" fmla="val 163571"/>
            </a:avLst>
          </a:prstGeom>
          <a:solidFill>
            <a:srgbClr val="ccffcc">
              <a:alpha val="50000"/>
            </a:srgbClr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34160" y="3705120"/>
            <a:ext cx="244440" cy="1784520"/>
          </a:xfrm>
          <a:prstGeom prst="downArrow">
            <a:avLst>
              <a:gd name="adj1" fmla="val 50000"/>
              <a:gd name="adj2" fmla="val 182511"/>
            </a:avLst>
          </a:prstGeom>
          <a:solidFill>
            <a:srgbClr val="ccffcc">
              <a:alpha val="50000"/>
            </a:srgbClr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799480" y="3714840"/>
            <a:ext cx="217440" cy="1552320"/>
          </a:xfrm>
          <a:prstGeom prst="downArrow">
            <a:avLst>
              <a:gd name="adj1" fmla="val 50000"/>
              <a:gd name="adj2" fmla="val 178477"/>
            </a:avLst>
          </a:prstGeom>
          <a:solidFill>
            <a:srgbClr val="ccffcc">
              <a:alpha val="50000"/>
            </a:srgbClr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750-F93C-4F29-B851-2D82547AA9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74600" y="711360"/>
            <a:ext cx="766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Инвестиционная стратегия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33640" y="1454040"/>
            <a:ext cx="71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нализ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800" y="2022480"/>
            <a:ext cx="3541680" cy="32796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34955" dir="292711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70560" y="2031840"/>
            <a:ext cx="3438360" cy="32799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43570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28800" y="5456160"/>
            <a:ext cx="3454200" cy="408240"/>
          </a:xfrm>
          <a:prstGeom prst="downArrow">
            <a:avLst>
              <a:gd name="adj1" fmla="val 48019"/>
              <a:gd name="adj2" fmla="val 59384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48320" y="5451480"/>
            <a:ext cx="3368520" cy="407880"/>
          </a:xfrm>
          <a:prstGeom prst="downArrow">
            <a:avLst>
              <a:gd name="adj1" fmla="val 48019"/>
              <a:gd name="adj2" fmla="val 59384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3480" y="5951520"/>
            <a:ext cx="3251160" cy="725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25751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43440" y="5946840"/>
            <a:ext cx="3235320" cy="725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  <a:effectLst>
            <a:outerShdw dist="125751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5994360"/>
            <a:ext cx="1465200" cy="695520"/>
          </a:xfrm>
          <a:custGeom>
            <a:avLst/>
            <a:gdLst>
              <a:gd name="textAreaLeft" fmla="*/ 256680 w 1465200"/>
              <a:gd name="textAreaRight" fmla="*/ 1208520 w 146520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3786" y="0"/>
                </a:moveTo>
                <a:lnTo>
                  <a:pt x="17814" y="0"/>
                </a:lnTo>
                <a:lnTo>
                  <a:pt x="17814" y="6805"/>
                </a:lnTo>
                <a:lnTo>
                  <a:pt x="18903" y="6805"/>
                </a:lnTo>
                <a:lnTo>
                  <a:pt x="18903" y="2556"/>
                </a:lnTo>
                <a:lnTo>
                  <a:pt x="21600" y="10800"/>
                </a:lnTo>
                <a:lnTo>
                  <a:pt x="18903" y="19044"/>
                </a:lnTo>
                <a:lnTo>
                  <a:pt x="18903" y="14795"/>
                </a:lnTo>
                <a:lnTo>
                  <a:pt x="17814" y="14795"/>
                </a:lnTo>
                <a:lnTo>
                  <a:pt x="17814" y="21600"/>
                </a:lnTo>
                <a:lnTo>
                  <a:pt x="3786" y="21600"/>
                </a:lnTo>
                <a:lnTo>
                  <a:pt x="3786" y="14795"/>
                </a:lnTo>
                <a:lnTo>
                  <a:pt x="2697" y="14795"/>
                </a:lnTo>
                <a:lnTo>
                  <a:pt x="2697" y="19044"/>
                </a:lnTo>
                <a:lnTo>
                  <a:pt x="0" y="10800"/>
                </a:lnTo>
                <a:lnTo>
                  <a:pt x="2697" y="2556"/>
                </a:lnTo>
                <a:lnTo>
                  <a:pt x="2697" y="6805"/>
                </a:lnTo>
                <a:lnTo>
                  <a:pt x="3786" y="680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1560" y="2062080"/>
            <a:ext cx="36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ион: внутренняя сред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96080" y="210024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нешнее окружени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0560" y="2543040"/>
            <a:ext cx="325116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6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потребностей, возможностей и ресурсов регион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6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е инвестиционного потенциала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6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и оценка деятельности отдельных бюджетообразующих предприят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6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ение стратегически важных проектов, экспертная оценк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5080" y="2424240"/>
            <a:ext cx="35276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номические, промышленные и технологические тенденции, стратегии и инвест. мотивации в мировой экономике и российских регионах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конкурентного окружения: инвест. политика, законодательство, промоутерские механизмы, принятые на вооружение конкурентам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87480" y="6008760"/>
            <a:ext cx="31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 И НЕДОСТАТКИ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40480" y="6018120"/>
            <a:ext cx="31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И И УГРОЗЫ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54640" y="599436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OT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8F9-C943-4A7D-A885-E1D3A76942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7440" y="873000"/>
            <a:ext cx="766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Инвестиционная стратегия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62080" y="1601640"/>
            <a:ext cx="71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нализ: Цели и составляющ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7640" y="2003400"/>
            <a:ext cx="3716280" cy="1916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25751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41960" y="2013120"/>
            <a:ext cx="3716280" cy="1915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25751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2960" y="4741920"/>
            <a:ext cx="3716280" cy="19350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25751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37280" y="4751280"/>
            <a:ext cx="3716280" cy="1916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25751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8320" y="3833640"/>
            <a:ext cx="3743280" cy="9874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01880" y="1989000"/>
            <a:ext cx="35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 (СИЛА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40320" y="1984320"/>
            <a:ext cx="357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 (СЛАБОСТИ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5480" y="4756320"/>
            <a:ext cx="38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ОЗМОЖНОСТ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97560" y="4770360"/>
            <a:ext cx="35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ГРОЗ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67080" y="390528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ирование инвестиционной стратег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4880" y="2338560"/>
            <a:ext cx="359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0080" y="2470320"/>
            <a:ext cx="368640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ое и географическое положение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дские ресурсы региона и их квалификация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рьевая баз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овая наук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7960" y="2332080"/>
            <a:ext cx="368604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ие опыта ведения дел с международными институтам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норирование важных отраслей промышленности в течение социалистического период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ие ориентации на качество и конкурентоспособность в среде предприятий регион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25640" y="5208480"/>
            <a:ext cx="36860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мирная интеграция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ыщение рынков и ужесточение конкуренци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нснациональные корпорации заинтересованы в природных ресурса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57960" y="5149800"/>
            <a:ext cx="368604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ал процесса реформ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ая дестабилизация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уренция со стороны других рынков и регионов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еннее сопротивление переменам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703-D2C0-47DB-A43F-FA5C8CD828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7440" y="758880"/>
            <a:ext cx="766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Инвестиционная стратегия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33640" y="1535040"/>
            <a:ext cx="714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Разработка стратег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2287440"/>
            <a:ext cx="7532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четом результа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нализа формулирование реалистичных, достижимых целей (ежегодные притоки, притоки на душу населения, соотношения иностранных и национальных инвестиций и др.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приоритетных отраслей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ение стратегически важных проектов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ая Программа финансирования и механизмов привлечения инвестиций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74760" indent="-374760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683-D0C7-4F6D-8BEE-19CCA40C29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17440" y="758880"/>
            <a:ext cx="802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Инвестиционная стратегия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3640" y="1320840"/>
            <a:ext cx="714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Реализация стратег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22480" y="1847880"/>
            <a:ext cx="7345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851040" indent="-37152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разумных побудительных механизмов: налоги, преференции, пр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851040" indent="-37152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условий для инвестиций: местное законодательство, административные барьеры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851040" indent="-37152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е, промоутерские кампании, мероприятия по созданию имиджа, коммуникационная стратег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851040" indent="-37152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851040" indent="-37152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53B-B8CE-45F9-A6B9-B7192B25CC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07:08:44Z</dcterms:created>
  <dc:creator>Svetlana</dc:creator>
  <dc:description/>
  <dc:language>en-US</dc:language>
  <cp:lastModifiedBy>Вдовин</cp:lastModifiedBy>
  <dcterms:modified xsi:type="dcterms:W3CDTF">2002-04-18T21:08:14Z</dcterms:modified>
  <cp:revision>14</cp:revision>
  <dc:subject/>
  <dc:title>Власть и инвести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01043312</vt:r8>
  </property>
  <property fmtid="{D5CDD505-2E9C-101B-9397-08002B2CF9AE}" pid="3" name="_AuthorEmail">
    <vt:lpwstr>lfar@clm.ru</vt:lpwstr>
  </property>
  <property fmtid="{D5CDD505-2E9C-101B-9397-08002B2CF9AE}" pid="4" name="_AuthorEmailDisplayName">
    <vt:lpwstr>Фарафонтова Людмила Вячеславовна</vt:lpwstr>
  </property>
  <property fmtid="{D5CDD505-2E9C-101B-9397-08002B2CF9AE}" pid="5" name="_EmailSubject">
    <vt:lpwstr>синия на СПб.ppt</vt:lpwstr>
  </property>
  <property fmtid="{D5CDD505-2E9C-101B-9397-08002B2CF9AE}" pid="6" name="_ReviewingToolsShownOnce">
    <vt:lpwstr/>
  </property>
</Properties>
</file>