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3AD-C8C8-4673-B9E3-1464E02C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BA3-C633-4134-9581-2D2471E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100-D5C9-45B4-94BA-A0AD133E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8E5-4E53-4D86-9006-C8CEE3B6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708-5609-4F89-A2D8-B61A8135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9C74-5739-4937-ACA5-08F326E9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20F-4366-4A03-BCE3-18FCE0DD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149D-4C79-4EE4-91C5-E7A63F4F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CA29-EC4A-48B2-BC17-4F48BF9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F996-D8F9-4644-BCE8-8739A66B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FA4C-7873-4489-AD4D-37A0CC1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0F3-2AF7-40B5-BA32-6FA2F1F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6FBC-5BA0-447E-BBC5-ADAE63F4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D600-FADB-4BC7-AD0F-A7F26920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73E-D4C8-45CE-A4DD-B3B2079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6EE0-3F84-4D6A-8DE8-D5FCAF6A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894-3B3F-4310-BE37-C0D9FCEB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C99-90BE-4CD6-B6B0-09FEE228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288-0877-49C0-AB24-A1D83C0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034-C0A8-4223-B961-FB05BB8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945-0256-4419-AAB0-FF1E4329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4EA-8DD3-4203-9853-E373C45C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8E9-F3F0-4A15-B364-A8A0143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1C9-2E4C-498E-B925-29E77D02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4542-1215-4B79-9AEC-6F77EBBC205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B8E-38F8-46E7-BB6B-86422D2A45F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560" y="1015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тратегический анализ и экономико-математическое моделирование в Артемовском городском округ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Дальневосточный центр экономического развит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Владивосто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Абрамов А.Л., Величко А.С.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Давыдов Д.В., Достовалов В.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7360" y="623736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нализ концентрации отрасле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268360" y="2633760"/>
                <a:ext cx="381636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: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03280" y="1521000"/>
            <a:ext cx="829296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ндекс «географической» концентрации отраслей регио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казывает относительную долю отрасли в структуре выпуска региона по сравнению с соответствующим общенациональным показателем (или показателем федерального округ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нализ концентрации отрасле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92160"/>
          <a:ext cx="9144000" cy="57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2160"/>
                    <a:ext cx="914400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нализ концентрации отрасле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44640"/>
          <a:ext cx="9144000" cy="57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44640"/>
                    <a:ext cx="91440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ежотраслевая специализац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49360"/>
            <a:ext cx="82519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ндекс межотраслевой специализации отрасли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носительно отрасли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 регионе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- относительная доля выпуска отрасли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регионе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по сравнению с общефедеральным показателем (или для федерального округ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17720" y="2529000"/>
                <a:ext cx="2967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63640" y="3753000"/>
                <a:ext cx="13413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ежотраслевая специализац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9360"/>
            <a:ext cx="9144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ндекс межотраслевой специализации региона позволяет оценить «достаточность» собственного производства отрасли в регионе промежуточной продукцией для производства в других отраслях регио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7280" y="2816280"/>
          <a:ext cx="8713800" cy="3564000"/>
        </p:xfrm>
        <a:graphic>
          <a:graphicData uri="http://schemas.openxmlformats.org/drawingml/2006/table">
            <a:tbl>
              <a:tblPr/>
              <a:tblGrid>
                <a:gridCol w="3168720"/>
                <a:gridCol w="3000240"/>
                <a:gridCol w="2544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ля отрасл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статочност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бственного производства отрасле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едостаток собственного производства отрасле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пливна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Цветная металлург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ерная металлург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ерная, цветная металлург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есна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пливна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640" y="3679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оделирование агломерац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700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т фактора расстоян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Макро»-подход к моделированию на уровне территор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вновесные потоки конечной и промежуточной продукции отраслей экономики в многорегиональной постановк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стые транспортные баланс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вновесность системы: функционал энтроп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чет показателей «связности» агломерац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нализ взаимодействия агломераций и воздействия внешних рын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оделирование агломерац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7280" y="1844640"/>
            <a:ext cx="8605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–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ичество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дукци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й отрасли, произведенной и вывозимой из регио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егион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–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атраты, связанные с производством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поставкой единицы продукци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й отрасли из регио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егион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уммарная стоимость производства и распределения продукции в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м регион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627280" y="5408640"/>
                <a:ext cx="35370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8920" y="1665360"/>
                <a:ext cx="50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95280" y="2637000"/>
                <a:ext cx="4557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оделирование агломерац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2280" y="1773360"/>
                <a:ext cx="490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5280" y="2744640"/>
                <a:ext cx="560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58920" y="1900080"/>
            <a:ext cx="8785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–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ичество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дукции отрасл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роизводимой и вывозимой из регио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егион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–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хнологические коэффициенты, характеризующие затраты продукта отрасл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еобходимые для производства единицы продукт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p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регионе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–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нечное потребление продукции отрасл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регионе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71640" y="5261040"/>
                <a:ext cx="5400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sup>
                        </m:sSub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8360" y="4365720"/>
                <a:ext cx="39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32000" y="3274920"/>
                <a:ext cx="658656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e>
                    </m:nary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5573880"/>
                <a:ext cx="32990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050920" y="4437000"/>
                <a:ext cx="49975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sup>
                        </m:sSub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оделирование агломераций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9280" y="1521000"/>
            <a:ext cx="80629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иск равновесных потоков     , соответству-ющих «наиболее вероятному» состоянию эконом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тематическая постановка задач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688000" y="1341360"/>
                <a:ext cx="479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роблема региональных коэффициенто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330200"/>
            <a:ext cx="77724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еход к транспортным моделя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етод сбора первичной информ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налитический мето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пользование индексов межотраслевой специализации для прогнозирования региональных коэффици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нтропийный метод прогнозирования коэффициентов Леонтьева для последующих л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24000" y="4581360"/>
                <a:ext cx="40514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000" y="5446800"/>
                <a:ext cx="2619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816360" y="5302080"/>
                <a:ext cx="208764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92720" y="5481720"/>
                <a:ext cx="2102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ртемовский городской округ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046160"/>
            <a:ext cx="8569440" cy="58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сположен в 40 км к северу от Владивостока, население около 85 тыс. человек, специализация - добыча уг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озможные сценарии развития по оценкам экспертов после сокращения угледобыч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омышленный цент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игород Владивосто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ород-спутник с функциями агропромышленного цент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оделирование агломерац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1125360"/>
            <a:ext cx="77724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счет равновесных потоков, расчет матрицы связанности, построение иерархии связей регио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нализ сценариев развития экономики регио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федеральные инициатив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зменение импорта и эксп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воз технолог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зменение инфраструкт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6280" y="3445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ерархия равновесных агрегированных поток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04000" y="5769000"/>
            <a:ext cx="27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Уровень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связанно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68360" y="5769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ысоки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47640" y="1881360"/>
            <a:ext cx="4608720" cy="3851280"/>
            <a:chOff x="1547640" y="1881360"/>
            <a:chExt cx="4608720" cy="3851280"/>
          </a:xfrm>
        </p:grpSpPr>
        <p:sp>
          <p:nvSpPr>
            <p:cNvPr id="214" name=""/>
            <p:cNvSpPr/>
            <p:nvPr/>
          </p:nvSpPr>
          <p:spPr>
            <a:xfrm>
              <a:off x="1547640" y="1881360"/>
              <a:ext cx="720" cy="38505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47640" y="2062440"/>
              <a:ext cx="343152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50160" y="2450160"/>
              <a:ext cx="343080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50160" y="2873880"/>
              <a:ext cx="275364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50160" y="3295080"/>
              <a:ext cx="2753640" cy="6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0160" y="5731920"/>
              <a:ext cx="4606200" cy="7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50160" y="3675600"/>
              <a:ext cx="238788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0160" y="4099320"/>
              <a:ext cx="169236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321160"/>
              <a:ext cx="558360" cy="67320"/>
            </a:xfrm>
            <a:custGeom>
              <a:avLst/>
              <a:gdLst/>
              <a:ahLst/>
              <a:rect l="l" t="t" r="r" b="b"/>
              <a:pathLst>
                <a:path w="649" h="101">
                  <a:moveTo>
                    <a:pt x="0" y="3"/>
                  </a:moveTo>
                  <a:lnTo>
                    <a:pt x="0" y="101"/>
                  </a:lnTo>
                  <a:lnTo>
                    <a:pt x="649" y="99"/>
                  </a:lnTo>
                  <a:lnTo>
                    <a:pt x="64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7640" y="4958280"/>
              <a:ext cx="558360" cy="69480"/>
            </a:xfrm>
            <a:custGeom>
              <a:avLst/>
              <a:gdLst/>
              <a:ahLst/>
              <a:rect l="l" t="t" r="r" b="b"/>
              <a:pathLst>
                <a:path w="649" h="104">
                  <a:moveTo>
                    <a:pt x="0" y="6"/>
                  </a:moveTo>
                  <a:lnTo>
                    <a:pt x="0" y="104"/>
                  </a:lnTo>
                  <a:lnTo>
                    <a:pt x="649" y="99"/>
                  </a:lnTo>
                  <a:lnTo>
                    <a:pt x="64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50160" y="4554720"/>
              <a:ext cx="113652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29040" y="5150160"/>
              <a:ext cx="557280" cy="67680"/>
            </a:xfrm>
            <a:custGeom>
              <a:avLst/>
              <a:gdLst/>
              <a:ahLst/>
              <a:rect l="l" t="t" r="r" b="b"/>
              <a:pathLst>
                <a:path w="648" h="101">
                  <a:moveTo>
                    <a:pt x="0" y="3"/>
                  </a:moveTo>
                  <a:lnTo>
                    <a:pt x="0" y="101"/>
                  </a:lnTo>
                  <a:lnTo>
                    <a:pt x="648" y="99"/>
                  </a:lnTo>
                  <a:lnTo>
                    <a:pt x="6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5640" y="4586760"/>
              <a:ext cx="84960" cy="59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64600" y="4995720"/>
              <a:ext cx="84960" cy="35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3120" y="2905200"/>
              <a:ext cx="84240" cy="42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7760" y="2094840"/>
              <a:ext cx="84240" cy="203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03800" y="3076560"/>
              <a:ext cx="67536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1120" y="4131720"/>
              <a:ext cx="86760" cy="742680"/>
            </a:xfrm>
            <a:custGeom>
              <a:avLst/>
              <a:gdLst/>
              <a:ahLst/>
              <a:rect l="l" t="t" r="r" b="b"/>
              <a:pathLst>
                <a:path w="101" h="1110">
                  <a:moveTo>
                    <a:pt x="99" y="0"/>
                  </a:moveTo>
                  <a:lnTo>
                    <a:pt x="0" y="0"/>
                  </a:lnTo>
                  <a:lnTo>
                    <a:pt x="3" y="1110"/>
                  </a:lnTo>
                  <a:lnTo>
                    <a:pt x="101" y="111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86680" y="4840920"/>
              <a:ext cx="555840" cy="67320"/>
            </a:xfrm>
            <a:custGeom>
              <a:avLst/>
              <a:gdLst/>
              <a:ahLst/>
              <a:rect l="l" t="t" r="r" b="b"/>
              <a:pathLst>
                <a:path w="646" h="101">
                  <a:moveTo>
                    <a:pt x="0" y="3"/>
                  </a:moveTo>
                  <a:lnTo>
                    <a:pt x="0" y="101"/>
                  </a:lnTo>
                  <a:lnTo>
                    <a:pt x="646" y="98"/>
                  </a:lnTo>
                  <a:lnTo>
                    <a:pt x="64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6680" y="4837680"/>
              <a:ext cx="555840" cy="67320"/>
            </a:xfrm>
            <a:custGeom>
              <a:avLst/>
              <a:gdLst/>
              <a:ahLst/>
              <a:rect l="l" t="t" r="r" b="b"/>
              <a:pathLst>
                <a:path w="646" h="101">
                  <a:moveTo>
                    <a:pt x="0" y="2"/>
                  </a:moveTo>
                  <a:lnTo>
                    <a:pt x="0" y="101"/>
                  </a:lnTo>
                  <a:lnTo>
                    <a:pt x="646" y="98"/>
                  </a:lnTo>
                  <a:lnTo>
                    <a:pt x="64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96640" y="3707640"/>
              <a:ext cx="84960" cy="74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2520" y="4422600"/>
              <a:ext cx="695160" cy="6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38040" y="4099320"/>
              <a:ext cx="1041120" cy="6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0" y="19162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Чук. А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276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амч. об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74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Якути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176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агад. об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5733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им. кра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93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мурск. об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400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ахал. об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973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вр. А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157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Хабар. кра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3280" y="5769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изки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92720" y="2384280"/>
            <a:ext cx="26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ровень связанности регионов – доля межрегионального оборота в суммарном обороте этих регион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Кластеры» экономики Д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908000" y="1341360"/>
          <a:ext cx="540072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40072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708360" y="4076640"/>
            <a:ext cx="2735280" cy="1873440"/>
          </a:xfrm>
          <a:prstGeom prst="ellipse">
            <a:avLst/>
          </a:prstGeom>
          <a:noFill/>
          <a:ln w="316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2781360"/>
            <a:ext cx="2232000" cy="863640"/>
          </a:xfrm>
          <a:prstGeom prst="ellipse">
            <a:avLst/>
          </a:prstGeom>
          <a:noFill/>
          <a:ln w="316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51280" y="458136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ЛАСТЕР «ЮГ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287172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ЛАСТЕР «СЕВЕР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7360" y="623736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1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Связанность агломераций и воздействие внешних рынко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79800" y="1388880"/>
            <a:ext cx="8384040" cy="4812840"/>
            <a:chOff x="379800" y="1388880"/>
            <a:chExt cx="8384040" cy="4812840"/>
          </a:xfrm>
        </p:grpSpPr>
        <p:sp>
          <p:nvSpPr>
            <p:cNvPr id="260" name=""/>
            <p:cNvSpPr/>
            <p:nvPr/>
          </p:nvSpPr>
          <p:spPr>
            <a:xfrm>
              <a:off x="4652640" y="5872680"/>
              <a:ext cx="327960" cy="32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57640" y="5872680"/>
              <a:ext cx="13150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Владивосток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81560" y="4230360"/>
              <a:ext cx="326880" cy="32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06720" y="3894480"/>
              <a:ext cx="1316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Хабаровск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72400" y="3822480"/>
              <a:ext cx="1808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Южно-Сахалинск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21400" y="4090320"/>
              <a:ext cx="238320" cy="237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6120" y="3741120"/>
              <a:ext cx="14814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Благовещенск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3560" y="5052240"/>
              <a:ext cx="174600" cy="17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65240" y="5377680"/>
              <a:ext cx="13194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Биробиджан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11520" y="2118600"/>
              <a:ext cx="238320" cy="236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7520" y="2027880"/>
              <a:ext cx="131652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Якутск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49600" y="2666880"/>
              <a:ext cx="16142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етропавловск-Камчатский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68160" y="1603440"/>
              <a:ext cx="113760" cy="113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3720" y="1388880"/>
              <a:ext cx="131616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Анадырь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2560" y="2355840"/>
              <a:ext cx="13150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Магадан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008160" y="4481640"/>
              <a:ext cx="1373040" cy="639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708080" y="3963960"/>
              <a:ext cx="1839960" cy="364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300320" y="4328280"/>
              <a:ext cx="15325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585320" y="4557960"/>
              <a:ext cx="190800" cy="131436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0080" y="4150440"/>
              <a:ext cx="30211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08160" y="5225760"/>
              <a:ext cx="1644480" cy="73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980960" y="4002480"/>
              <a:ext cx="1660680" cy="19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404960" y="2793960"/>
              <a:ext cx="2313720" cy="11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81560" y="2994840"/>
              <a:ext cx="2183400" cy="82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0200" y="2283840"/>
              <a:ext cx="220536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008160" y="4002480"/>
              <a:ext cx="3633480" cy="122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60080" y="4231440"/>
              <a:ext cx="3348360" cy="164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300680" y="3894120"/>
              <a:ext cx="526428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224000" y="2355840"/>
              <a:ext cx="587520" cy="17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1120" y="3822480"/>
              <a:ext cx="181440" cy="18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2920" y="2684880"/>
              <a:ext cx="153360" cy="155520"/>
            </a:xfrm>
            <a:prstGeom prst="ellipse">
              <a:avLst/>
            </a:prstGeom>
            <a:solidFill>
              <a:srgbClr val="ff000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31080" y="2844000"/>
              <a:ext cx="150120" cy="15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65240" y="5377680"/>
              <a:ext cx="13194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79440" y="5453280"/>
              <a:ext cx="747000" cy="748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21400" y="5794920"/>
              <a:ext cx="131616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Харбин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121040" y="5761080"/>
              <a:ext cx="3531240" cy="281520"/>
            </a:xfrm>
            <a:prstGeom prst="line">
              <a:avLst/>
            </a:prstGeom>
            <a:ln w="50760">
              <a:solidFill>
                <a:srgbClr val="8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51160" y="4328280"/>
              <a:ext cx="672480" cy="464400"/>
            </a:xfrm>
            <a:prstGeom prst="line">
              <a:avLst/>
            </a:prstGeom>
            <a:ln w="507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79440" y="4785840"/>
              <a:ext cx="171000" cy="155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120" y="4792680"/>
              <a:ext cx="131616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Хейхэ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160" y="4223160"/>
              <a:ext cx="2712960" cy="1965240"/>
            </a:xfrm>
            <a:custGeom>
              <a:avLst/>
              <a:gdLst/>
              <a:ahLst/>
              <a:rect l="l" t="t" r="r" b="b"/>
              <a:pathLst>
                <a:path w="2971" h="2153">
                  <a:moveTo>
                    <a:pt x="0" y="0"/>
                  </a:moveTo>
                  <a:cubicBezTo>
                    <a:pt x="365" y="231"/>
                    <a:pt x="1486" y="773"/>
                    <a:pt x="2191" y="1388"/>
                  </a:cubicBezTo>
                  <a:cubicBezTo>
                    <a:pt x="2896" y="2003"/>
                    <a:pt x="2809" y="1994"/>
                    <a:pt x="2971" y="215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474120" y="4902120"/>
              <a:ext cx="185760" cy="5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оделирование взаимодействия агломераций: внешние рынк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760" y="2290680"/>
            <a:ext cx="869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зменение ввоза в регион из других регионов Д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7240" y="27478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3,3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4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2,4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3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1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3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0,1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3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0,6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402732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зменение вывоза из региона в другие регионы Д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7240" y="448452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14,4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1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2,2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0,4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1,1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0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0,1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3,2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0,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557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Моделирование роста импорта продукции пищевой промышленности в Приморский край на 1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оделирование взаимодействия агломераций: внешние рынк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760" y="2290680"/>
            <a:ext cx="869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зменение ввоза в регион из других регионов Д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402732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зменение вывоза из региона в другие регионы Д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5360" y="27478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4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7,3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,9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,0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,2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,5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4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0,8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5360" y="448452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,2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,2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0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0,8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,7%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0,4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080" y="1592280"/>
            <a:ext cx="79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Моделирование роста экспорта продукции ТЭК из Сахалинско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области на 2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208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«Южная Приморская» агломерац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32000" y="695160"/>
            <a:ext cx="6516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нализ агломераций Приморского края: «Южная Приморская» агломер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1600200"/>
          <a:ext cx="7643880" cy="4568760"/>
        </p:xfrm>
        <a:graphic>
          <a:graphicData uri="http://schemas.openxmlformats.org/drawingml/2006/table">
            <a:tbl>
              <a:tblPr/>
              <a:tblGrid>
                <a:gridCol w="2746440"/>
                <a:gridCol w="1224000"/>
                <a:gridCol w="1296720"/>
                <a:gridCol w="1295640"/>
                <a:gridCol w="1081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оэффициенты корреляции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траслевых выпус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. Арте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. Владивосто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9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. Находк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9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9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. Уссурийс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5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7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8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Районы сельскохозяйственной специал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826920" y="876240"/>
            <a:ext cx="78854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айоны «лесной» специализа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42920" y="1158840"/>
          <a:ext cx="676908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58840"/>
                    <a:ext cx="676908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Основные цели и задачи исследова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7280" y="1046160"/>
            <a:ext cx="8569440" cy="58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атегический анализ факторов развития и определение сценариев развития с применением экономико-математического моделирова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62120" indent="-3049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деление субъекта стратегирования: агломерационный подхо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62120" indent="-3049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едварительный анализ агломераций: индексы специализации, концентрац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62120" indent="-3049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дель равновесных потоков для выделения агломераций, взаимодействие агломераций друг с другом и с внешними рынка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62120" indent="-3049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ормирование сценариев развит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агломераций Приморского края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еверные райо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79640" y="1521000"/>
          <a:ext cx="6984720" cy="4141440"/>
        </p:xfrm>
        <a:graphic>
          <a:graphicData uri="http://schemas.openxmlformats.org/drawingml/2006/table">
            <a:tbl>
              <a:tblPr/>
              <a:tblGrid>
                <a:gridCol w="2844720"/>
                <a:gridCol w="971640"/>
                <a:gridCol w="1008000"/>
                <a:gridCol w="971640"/>
                <a:gridCol w="1188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оэффициенты корреляции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траслевых выпус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.Дальнереченск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.Кавалеровск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8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.Красноармейск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7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.Тернейск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7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9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33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Стратегический анализ внешних факторов: итог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6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Выделение экономического субъекта стратегирования на основе применения агломерационного подхода. Формирование Южной Приморской агломерац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Анализ взаимодействия Южной агломерации с основными агломерациями Дальнего Востока России на основе моделирования равновесных перетоков товаров и ресур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гломерации Приморского кра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Южная Приморская» агломерация: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восток, Артем, Находка, Уссурийск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льскохозяйственные районы юго-запа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ластер лесной специализации (северные районы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тратегический анализ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ог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305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ополнительные сценарии развития Артемовского городского округа в Южной Приморской агломерации (на основе моделирования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ункция транспортного узла: развитие логистических услу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ункция агропромышленного центра: развитие пищевой промышленности. «Управление» сельскохозяйственными территориями юго-запада (Надеждинский и Шкотовский районы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17360" y="623736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гломерационный подход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00" y="1089000"/>
            <a:ext cx="8651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убъект экономического развития не обязан совпадать с административно-территориальными границ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нятие агломерации в экономической географи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кономическое развитие идет преимущественно в городских агломерациях, сельские районы в некотором смысле – «подчиненны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гломерация отличается тесными внутренними экономическими связями, существенной долей внутреннего потребления услуг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заимодействие агломераций с внешней средой характеризуется товарными потоками, факторы относительно менее мобильн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7360" y="623736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гломерационный подход: классик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628640"/>
            <a:ext cx="8651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льфред Вебер, Альфред Маршал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изводственная эффективность достигаетс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процессе специализации и концентрации деятельности на огромных предприятия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 компактной территориальной специализ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последнем случа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большие предприятия выполняют отдельную фазу производственной деятель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отношении каждой фазы предприятие воплощает весь потенциал крупного предпри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гломерационный подход: М. Портер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1052640"/>
            <a:ext cx="8605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Майкл Порте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арадокс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редприятия могут получить доступ к капиталам, товарам, информации по всему миру в мгновение ока, значит «глобальные» рынки должны снизить важность территориального размещения в процессе конкурентной борьбы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Но в реальной практике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большая часть конкурентоспособных на мировом уровне предприятий принадлежат к отраслям, географически сосредоточенным внутри определенной национальной территор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конкурентные преимущества имеют выраженный территориальный характе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гломерационный подход: «внешние эффекты» для агломерац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628640"/>
            <a:ext cx="8651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енри Ричардс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…экстерналии («внешние эффекты») в агломерациях достигаются за сче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экономии масшта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комплекс внутриорганизационных мер предпри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экономии от локализа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пространственной концентрации) – факторы, являющиеся внешними к предприятию, но внутренними по отношению к отрасли, к которой предприятие принадлежи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экономии от урбаниза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акторы, являющиеся внешними по отношению и к предприятию и отрас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Экономическое влияние эффекта экономии от локализаци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33360"/>
            <a:ext cx="8388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ложительное влияние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пециализация внутри отраслевого производственного цикл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нтенсивные торгово-закупочные связи между предприятия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кращение транзакционных издержек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ормирование специализированной и мобильной рабочей силы на территор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нижение неопределенности, присущей экономической среде и инновационным процесса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однозначное воздействие эффекта локализ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иление конкуренции между предприятиями одной отрасли, но развитие конкурентных способностей, помогающих противостоять внешним соперникам (Пол Кругман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Экономическое влияние эффекта экономии от урбанизаци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3336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8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828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остижение эффективного размера производств и экономии масштаба в производстве общественных товаров и услуг, например, транспортных коммуникаций, крупных больниц, университе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онцентрация капитальных вложений в инфраструктуру, широкий доступ для всех пользователей -  транспортные узлы, телекоммуникации, высокие технолог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начительная емкость городского рын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озможность углубленной специализации предприятий в сфере услуг: профессиональные консультации в организационной, технологической, коммерческой и финансовой сферах, услуги в сфере транспорта, основывающиеся на центральном, связующем, месте город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оступ к более масштабному, диверсифицированному в профессионально-квалификационном плане рынку тру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08:40:58Z</dcterms:created>
  <dc:creator/>
  <dc:description/>
  <dc:language>en-US</dc:language>
  <cp:lastModifiedBy>velichko</cp:lastModifiedBy>
  <dcterms:modified xsi:type="dcterms:W3CDTF">2006-11-16T07:53:42Z</dcterms:modified>
  <cp:revision>374</cp:revision>
  <dc:subject/>
  <dc:title>Стратегический анализ пространственного развития агломераций Дальнего Востока </dc:title>
</cp:coreProperties>
</file>