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4BD2-9C8F-4ECB-9636-E695DC0BC6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. Середина-конец 1990-х гг. Распространение комплексных програм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мену «пожарным» антикризисным планам стали приходить комплексные программы социально-экономического развития, рассчитанные на среднесрочную перспективу. Расширялся и охват российских городов процессами планирования – многие средние и малые города пожелали иметь свои плановые документы. Муниципальное социально-экономическое планирование перестало быть прерогативой крупных муниципальных образований. В то же время стратегические планы могли позволить себе лишь немногие города; пионером в этой сфере стал Санкт-Петербур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ю российских комплексных программ была (и остается) ориентация на системные преобразования, позволяющие прежде всего создать благоприятную нормативную и институциональную среду для муниципального развития. В частности, подобные тенденции были ярко выражены при разработке муниципальных программ в Ярославле и ряде муниципалитетов Нижегородской области (Арзамас, Дзержинск, Кстовский и Борский районы). Со временем многие города стали включать в свои комплексные программы отдельные элементы стратегического видения. Программы таким образом, превращались в промежуточное звено на пути перехода к практике стратегического план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D443-579D-4F23-91CE-05ABEB57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06E7-9D1D-47DB-A317-33DFC530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6468-7C44-4C86-A13A-4B1F838E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34D0-081A-48FD-9876-BA8F0888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4C44-2F10-4617-9A70-AF89283C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740-6188-4CC1-AF93-50BC605A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1863-BE4B-47CA-8EC6-ACD00B78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87B0-851D-4270-A51F-85B16385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CB98-63F6-4BC3-9B6D-7D668AF4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2722-57B1-428D-84F1-8852109D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574D-80A4-4DDF-BEFF-3F347AD9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CF92-B514-4428-8C52-84266ABB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F9B7-D002-4F41-AECF-0432166EA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38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ценка муниципальных и региональных программ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ыт Института экономики го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1640" y="4653000"/>
            <a:ext cx="62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тров Г.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ститут экономики города, Мос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404640"/>
            <a:ext cx="80643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Стратегическое планирование в городах и регионах России: измеряя результа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етвертый форум лидеров стратегического планирования Санкт-Петербург, 20-21 октября 200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3516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Оценка Программы развития города Кунгу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адач -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опросов –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араметров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ритериев – 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ндикаторов – 32, в том числе измеряемых численно – 11, остальные – качественная оценка по бальной шка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3516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Оценка Программы развития города Кунгу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адачи оценк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нализ выполнения програм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нализ результативности програм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орректировка програм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ередача технологии местным специалиста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Вопросы оценки, согласованные с Заказчиком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сколько содержание программы соответствует задачам социально-экономического развития город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сколько эффективен механизм реализации программы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сколько результативны программные действи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35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Оценка Программы развития города Кунгу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ованные метод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бота с документами городской управы и городской ду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кспертные опросы представителей МС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окус-группы с различными представителями местного сообще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тервь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Атрибуты»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тановление главы го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бочая группа из представителей города и оценщ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месячный и понедельный план-граф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бличный свод информ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инальный отчет с рекомендаци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51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Оценка Программы развития города Кунгу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Основные выводы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Программа имеет практическую направленность и является управленческим инструментом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Целевые программы часто содержат описание текущей деятельности, а не развити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Необоснованный рост количества целевых программ, отсутствие приоритетов, бессистемность в принятии решений, распыление средст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Есть относительно четкие индикаторы выполнения мероприятий, нет критериев оценки их качества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Слабая связь с бюджетным процессом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Рекомендации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Создание системы планирования социально-экономического развития Доработка программы, введение системы стратегических приоритетов и системы критериев качества выполнения мероприятий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Формализовать процесс реализации программы через процедуры, нормативные документы, планы реализаци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Провести еще минимум одну внутреннюю оценку программы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Повысить «прозрачность» процесса выполнения программы для местного сообществ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Другие примеры оценки муниципальных и региональных программ в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Институте экономики города 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ценка социальных програм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ограмма «От пособия к зарплате», г. Перм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ценка бюджетной эффективности муниципальных програм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«Муниципальная программа финансово-экономического развития города Саратова на 1999-2001 гг.» (1999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«Программа социально-экономического развития города Перми в 2004-2006 гг.» (2004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«Программа социально-экономического развития города Бузулука на 2004-2008 гг.» (2004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ценка региональных програм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«Программа социально-экономического развития Томской области» (2003-04 г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Другие примеры оценки муниципальных и региональных программ в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Институте экономики города (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013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ценка образовательных програм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а обучения муниципальных служащих «Муниципальная экономика и менеджмент» (Ташкентский государственный университе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ценка грантовых програм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нтовая программа Фонда Евразия в городе Лисаковске (Казахстан) по разработке стратегии городского разви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тодические разработ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рошюры по оценке, материалы семинаров и учебных кур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учение оценочной практи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зовательный курс по разработке социально-экономической политики на местном уровне – около 10 российских регионов, Кыргызстан, Грузия, Босния и Герцегов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У - Высшая школа экономики (г. Москв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Главные «подводные камн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1565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Оценка ради оценки, потому что модно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Оценку заказывает третье лицо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Технология программ отстает от технологии оценк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Трудности с формализованной информаци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«Оценивайте, но только без нас!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«Неправильные» результаты оценк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Неиспользованные результаты оценк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Что происходит в Рос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яд исследовательских и консалтинговых центров, НКО работают в этом направле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жде всего – социальные проек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жнейшая роль грантовых программ, прежде всего проводившихся при поддержке Фонда Евразия в 1999-2003 год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здание при поддержке Фонда Евразия Международной сети по оценке программ (СНГ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тет инициатива «с мест» - от практиков муниципального, регионального и, иногда, федеральн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Знакомство городов с инструментами мониторинга и оценки программ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63680" y="1700280"/>
          <a:ext cx="8229600" cy="442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3680" y="1700280"/>
                    <a:ext cx="822960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24000" y="6021360"/>
            <a:ext cx="69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по результатам обследования Института экономики города «Городское управление в современной России» (2004 го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Распространение инструмента оценки программ в городах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63680" y="1727280"/>
          <a:ext cx="8229600" cy="440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3680" y="1727280"/>
                    <a:ext cx="82296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39640" y="6021360"/>
            <a:ext cx="63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- по результатам обследования Института экономики города «Городское управление в современной России» (2004 го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Оценка реализации программ, разработанных с участием Института экономики город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оводилась в 2002-2003 годах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Муниципальная программа финансово-экономического развития города Саратова» (1999 год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Программа социально-экономического развития  Борского района Нижегородской области в 2001-2003 гг.» (1999 год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8016840" cy="99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ример: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«Муниципальная программа финансово-экономического развития города Саратова»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49600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-5788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 2002  г. специалистами ИЭГ и мэрии Саратова проведена оценка реализации программы с формализацией индикаторов, объяснением причин успеха или неу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етоды – работа с документами, экспертные интерв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бщая реализация – около 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Эффект от 20%  мероприятий признан высоким и от 20% - средни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сновными положительными факторами признаны – совершенствование процесса планирования, улучшение процедур, усиление контроля, привлечение общественных структу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сновными отрицательными факторами признаны – недостаточность финансирования, барьеры нормативной базы регионального и федерального уровня, бюрократическое сопротивление на мест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Оценка программ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управленческий инструмент, выделяемый в самостоятельную научно-прикладную дисциплин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Истоки и современное состояние за рубежом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ША, с 1960-70 – х гг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ривнесен в общественный сектор из корпоративного управ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егодня – оценочные «школы» ряда университетов США и Западной Европы, научные центры (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ld Bank Institute, The Urban Institu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ациональные и международные сообщества оценщик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ценка муниципальных и региональных программ в Институте экономики го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ка муниципальных и региональных программ – комплексных и отраслев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ка образовательных програ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ка грантовых програ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одические разрабо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оценочной практи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Проект «Разработка и внедрение методики оценки в практику управления социально-экономическим развитием городов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Выполнялся в 2002-03 гг. при поддержке Фонда Евраз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бъекты оценки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«Комплексная программа социально-экономической стабилизации и последующего развития города Кунгура в условиях экономической реформы» (Пермская область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рограмма «Социальная защита населения города Междуреченска в 2001 году» (Кемеровская область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«Программа развития жилищно-коммунального хозяйства Городецкого района на 1997-2003 гг.» (Нижегородская область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Что представляется важным опытом в результате проекта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Опыт независимой оценки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ценка внутренняя и внешня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Этика и организационные сложности независимой экспертиз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Оценка на разных стадиях реализации програм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едваритель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омежуточ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инальн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Оценка разных параметров программ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ценка процесса реализации, результативности, эффективности, влияния и п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3516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Оценка Программы развития города Кунгу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казчик – Управа города Кунгу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ип оцен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типу оценщика – внешня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стадии реализации программы – промежуточ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целевому назначению – оценка процесса реализации, оценка результати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20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Оценка Программы развития города Кунгу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Логическая схема оценк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Задачи, поставленные Заказчиком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Вопросы, согласованные с Заказчиком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Параметр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Критерии успеха программ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Индикатор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Единицы измерения индикаторо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Метод получения информаци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Метод обработки и интерпретации информаци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6:33:06Z</dcterms:created>
  <dc:creator>Juliaza</dc:creator>
  <dc:description/>
  <dc:language>en-US</dc:language>
  <cp:lastModifiedBy>Администратор</cp:lastModifiedBy>
  <dcterms:modified xsi:type="dcterms:W3CDTF">2005-10-21T09:51:27Z</dcterms:modified>
  <cp:revision>17</cp:revision>
  <dc:subject/>
  <dc:title>Оценка реализации стратегий: уроки российских городов</dc:title>
</cp:coreProperties>
</file>