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35053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9720" y="3846240"/>
            <a:ext cx="35053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61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09720" y="384624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7206120" y="384624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95200" y="121932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0680" y="121932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09720" y="384624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595200" y="384624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0680" y="3846240"/>
            <a:ext cx="1128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09720" y="12193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710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7206120" y="1219320"/>
            <a:ext cx="1710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206120" y="1219320"/>
            <a:ext cx="1710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09720" y="384624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710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061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6120" y="384624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097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06120" y="1219320"/>
            <a:ext cx="1710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09720" y="3846240"/>
            <a:ext cx="35053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09720" y="12193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ПРОГРАММНЫЙ СОВЕ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ОБЩЕСТВЕННЫЙ ОРГАН СТРАТЕГИЧЕСКОГО ПЛАНИРОВАНИЯ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556272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Занятость. Развитие трудового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4836960"/>
            <a:ext cx="26668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Финансовый центр Ур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3693960"/>
            <a:ext cx="2666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Развитие наукоемких технологий и инновационного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549520"/>
            <a:ext cx="441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914400"/>
            <a:ext cx="4419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2894040"/>
            <a:ext cx="2666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Новая жизнь крупных завод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2894040"/>
            <a:ext cx="175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Реструкту-ризация экономики города и развитие эко-номически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32600" y="1600200"/>
            <a:ext cx="1059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3244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5316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289404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96160" y="290664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316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2468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36939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7720" y="48751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17720" y="55245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99172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369396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4532040" y="3412800"/>
            <a:ext cx="459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менко С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65840" y="4875120"/>
            <a:ext cx="79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78440" y="5522760"/>
            <a:ext cx="79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691080"/>
            <a:ext cx="76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59600" y="487512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59600" y="552276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5184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5184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92960" y="2895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64440" y="48751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1840" y="552276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05920" y="48751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292960" y="552276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556272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. Чистый благоустроенный гор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05120" y="4532400"/>
            <a:ext cx="26668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Развитие современ-ных инженерных сис-тем жизнеобеспе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36432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 Современное жилищное строительств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2549520"/>
            <a:ext cx="441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914400"/>
            <a:ext cx="441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289404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Эффективная эксп-луатация жилого фон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2894040"/>
            <a:ext cx="175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Развитие среды проживания горож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32600" y="1600200"/>
            <a:ext cx="1059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63244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2760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89404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96160" y="290664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5316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92160" y="3579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454824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17720" y="55245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99172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40280" y="357984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4532040" y="3412800"/>
            <a:ext cx="459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улик В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65840" y="4548240"/>
            <a:ext cx="799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8440" y="5522760"/>
            <a:ext cx="79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34040" y="357660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59600" y="454824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59600" y="552276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38880" y="35766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5184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292960" y="2895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264440" y="454824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51840" y="552276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92960" y="357660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05920" y="454824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92960" y="552276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05120" y="5079960"/>
            <a:ext cx="266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.Услуги – новый ве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341960"/>
            <a:ext cx="26668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.Торговые ворота Среднего Ур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364320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.Аграрный комплекс большого гор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2549520"/>
            <a:ext cx="441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914400"/>
            <a:ext cx="441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289404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Производство потре-бительских товар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2894040"/>
            <a:ext cx="175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Развитие рынка товаров и услу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32600" y="1600200"/>
            <a:ext cx="1059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63244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2760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289404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96160" y="290664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5316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2468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2160" y="3579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430704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17720" y="499104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99172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40280" y="357984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0800000">
            <a:off x="4532040" y="3412800"/>
            <a:ext cx="459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еев В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52880" y="430704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78440" y="4989600"/>
            <a:ext cx="799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34040" y="357660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46640" y="4307040"/>
            <a:ext cx="76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59600" y="498960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35766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5184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2960" y="2895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51840" y="430704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51840" y="498960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92960" y="357660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92960" y="430704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92960" y="498960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92160" y="54990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549756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34040" y="549756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26280" y="549756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67760" y="549756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92160" y="5549760"/>
            <a:ext cx="2641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.Екатеринбург – город для бизне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4863960"/>
            <a:ext cx="2628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.Связь – вызов 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3986280"/>
            <a:ext cx="2666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.Удобный и доступ-ный общественный тран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16200" y="3630600"/>
            <a:ext cx="2997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Городские магистра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2549520"/>
            <a:ext cx="4419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914400"/>
            <a:ext cx="441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92160" y="2792520"/>
            <a:ext cx="2679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.Международный транспортно-логисти-ческий узе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830680"/>
            <a:ext cx="1854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Развитие транспорта, ск-ладского хозяй-ства и связ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32600" y="1600200"/>
            <a:ext cx="1059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676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5120" y="914400"/>
            <a:ext cx="0" cy="584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914400"/>
            <a:ext cx="0" cy="584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760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28782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96160" y="290664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53160" y="28828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24680" y="29084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940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92160" y="365616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40273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79560" y="48639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280" y="290664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991720" y="28940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40280" y="365616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4532040" y="3412800"/>
            <a:ext cx="459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яшенко А.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2880" y="402732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4862520"/>
            <a:ext cx="80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34040" y="365292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46640" y="4027320"/>
            <a:ext cx="763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34040" y="486252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46640" y="28828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251840" y="365292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64440" y="28954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92960" y="28954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51840" y="40273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51840" y="486252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92960" y="365292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92960" y="402732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92960" y="486252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0840" y="5270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78440" y="5268960"/>
            <a:ext cx="3987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05120" y="5270400"/>
            <a:ext cx="2641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2.Экологически чис-тый гор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5256360"/>
            <a:ext cx="1854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Охрана окру-жающей среды и развитие эко-логической культу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92160" y="4597560"/>
            <a:ext cx="26416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.Екатеринбург – безопасный гор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3986280"/>
            <a:ext cx="2666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.Город обществен-ного соглас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3363840"/>
            <a:ext cx="290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.Город активных гражд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2549520"/>
            <a:ext cx="4419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914400"/>
            <a:ext cx="441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2160" y="2868480"/>
            <a:ext cx="26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3.Столица Ур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280" y="2830680"/>
            <a:ext cx="1854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Развитие гражданского общества и местного самоуправле-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932600" y="1600200"/>
            <a:ext cx="1059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676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914400"/>
            <a:ext cx="0" cy="584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914400"/>
            <a:ext cx="0" cy="584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2760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28782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96160" y="290664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53160" y="28828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924680" y="29084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28940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33130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40273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92160" y="4648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2280" y="290664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991720" y="2894040"/>
            <a:ext cx="0" cy="38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2880" y="331308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0800000">
            <a:off x="4532040" y="2955960"/>
            <a:ext cx="459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унгусов В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402732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52880" y="464652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46640" y="3309840"/>
            <a:ext cx="763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46640" y="4027320"/>
            <a:ext cx="763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46640" y="4646520"/>
            <a:ext cx="763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46640" y="28828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264440" y="330984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64440" y="28954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92960" y="2895480"/>
            <a:ext cx="0" cy="386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77040" y="40273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64440" y="46465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05920" y="330984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92960" y="4027320"/>
            <a:ext cx="67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05920" y="464652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0840" y="5270400"/>
            <a:ext cx="884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5270400"/>
            <a:ext cx="2641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.Генеральный план гор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280" y="5268960"/>
            <a:ext cx="1854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Генеральный план гор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0800000">
            <a:off x="4532040" y="5266800"/>
            <a:ext cx="4590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ов В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80880" y="1752480"/>
            <a:ext cx="8534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ПРОГРАММНЫЙ СОВЕ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ОБЩЕСТВЕННЫЙ ОРГАН СТРАТЕГИЧЕСКОГО ПЛАН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Принципиальная структура стратегического плана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684360"/>
            <a:ext cx="266688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бор приоритетов и разработка перечня основ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Разработка корпоративного стратегического пл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Разработка бизнес-планов внедрения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Привлечение пользователей к созданию и реал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3754440"/>
            <a:ext cx="8769240" cy="11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4897440"/>
            <a:ext cx="8769240" cy="81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5735520"/>
            <a:ext cx="8769240" cy="7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400" y="528480"/>
            <a:ext cx="8769240" cy="320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7680" y="538200"/>
            <a:ext cx="6253200" cy="923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2040" y="690480"/>
            <a:ext cx="60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СТРАТЕГИЧЕСКИЕ НАПРАВЛЕНИЯ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2800" y="1155600"/>
            <a:ext cx="217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9360" y="1155600"/>
            <a:ext cx="217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69000" y="1155600"/>
            <a:ext cx="217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560" y="1155600"/>
            <a:ext cx="217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40320" y="1155600"/>
            <a:ext cx="217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77240" y="1155600"/>
            <a:ext cx="217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38920" y="1155600"/>
            <a:ext cx="217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7680" y="1619280"/>
            <a:ext cx="6253200" cy="1465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9640" y="1541520"/>
            <a:ext cx="596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СТРАТЕГИЧЕСКИЕ ПРОГРАММЫ(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76640" y="2082960"/>
            <a:ext cx="5112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86280" y="2082960"/>
            <a:ext cx="5112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95920" y="2082960"/>
            <a:ext cx="2174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05560" y="2082960"/>
            <a:ext cx="2174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15200" y="2082960"/>
            <a:ext cx="2174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77240" y="2082960"/>
            <a:ext cx="2174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38920" y="2082960"/>
            <a:ext cx="2178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1400" y="2082960"/>
            <a:ext cx="5126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57960" y="2082960"/>
            <a:ext cx="5112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4520" y="2082960"/>
            <a:ext cx="5112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29280" y="2082960"/>
            <a:ext cx="51300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6200" y="2082960"/>
            <a:ext cx="510840" cy="691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972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040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972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7040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5936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004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5936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004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95920" y="2160720"/>
            <a:ext cx="1429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16600" y="2160720"/>
            <a:ext cx="1429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95920" y="2470320"/>
            <a:ext cx="1429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16600" y="2470320"/>
            <a:ext cx="1429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30680" y="2160720"/>
            <a:ext cx="1447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51360" y="2160720"/>
            <a:ext cx="1447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30680" y="2470320"/>
            <a:ext cx="1447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51360" y="2470320"/>
            <a:ext cx="1447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60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88280" y="2160720"/>
            <a:ext cx="14436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6760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8280" y="2470320"/>
            <a:ext cx="14436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4160" y="2160720"/>
            <a:ext cx="1429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2160720"/>
            <a:ext cx="1429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4160" y="2470320"/>
            <a:ext cx="1429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2470320"/>
            <a:ext cx="1429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38920" y="2160720"/>
            <a:ext cx="1447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59600" y="2160720"/>
            <a:ext cx="144720" cy="15084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13800" y="2470320"/>
            <a:ext cx="142920" cy="15048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552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3064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992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1340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4852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13860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1440" y="4324320"/>
            <a:ext cx="1174680" cy="61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0040" y="4324320"/>
            <a:ext cx="1174680" cy="61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4324320"/>
            <a:ext cx="1175040" cy="61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24840" y="4324320"/>
            <a:ext cx="1172880" cy="61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400640"/>
            <a:ext cx="647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РПОРАТИВНЫЙ СТРАТЕГИЧЕСК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5520" y="2776680"/>
            <a:ext cx="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5520" y="2776680"/>
            <a:ext cx="13986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95520" y="2776320"/>
            <a:ext cx="80964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95520" y="2776320"/>
            <a:ext cx="161928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2776680"/>
            <a:ext cx="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338520" y="2776680"/>
            <a:ext cx="15462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48520" y="2776680"/>
            <a:ext cx="736560" cy="14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86480" y="2776680"/>
            <a:ext cx="13986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5240" y="2933640"/>
            <a:ext cx="2630520" cy="366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b1b1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неральный план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1680" y="3475080"/>
            <a:ext cx="3784680" cy="641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b1b1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ПРИОРИТЕТЫ РАЗВИТИЯ ЕКАТЕРИНБУР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7680" y="5251320"/>
            <a:ext cx="6326280" cy="366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b1b1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 ВНЕДРЕНИЯ И ОЦЕНКИ СТРАТЕ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7320" y="5943600"/>
            <a:ext cx="4707000" cy="366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bcb7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ХАНИЗМ ОБРАТНОЙ СВЯЗ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Принципы формирования Программного совета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доступность участия в процессе формирования ПС на основе представительства общественности, науки, бизнеса, власти (ассоциации, союзы, объединени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зрачность формирования ПС, его целей, задач и механизмов вопло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изменность правил в процессе формирования ПС и  участия в  его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доступность реализации механизмов функционирования ПС и отсутствие бюрократических барьеров в его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Схема работы Программного совета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1143000"/>
            <a:ext cx="4095720" cy="3714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b1b1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5960" y="1251000"/>
            <a:ext cx="3740040" cy="3481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b657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344760"/>
            <a:ext cx="5791320" cy="2751120"/>
          </a:xfrm>
          <a:prstGeom prst="triangle">
            <a:avLst>
              <a:gd name="adj" fmla="val 49972"/>
            </a:avLst>
          </a:prstGeom>
          <a:gradFill rotWithShape="0">
            <a:gsLst>
              <a:gs pos="0">
                <a:srgbClr val="ffff99"/>
              </a:gs>
              <a:gs pos="100000">
                <a:srgbClr val="9898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8680" y="1835280"/>
            <a:ext cx="2514600" cy="23144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657e6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89160" y="2408400"/>
            <a:ext cx="1220760" cy="1166760"/>
          </a:xfrm>
          <a:prstGeom prst="ellipse">
            <a:avLst/>
          </a:prstGeom>
          <a:gradFill rotWithShape="0">
            <a:gsLst>
              <a:gs pos="0">
                <a:srgbClr val="a24775"/>
              </a:gs>
              <a:gs pos="100000">
                <a:srgbClr val="9933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0440" y="1833480"/>
            <a:ext cx="0" cy="23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96880" y="2990880"/>
            <a:ext cx="25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4640" y="2163600"/>
            <a:ext cx="1822320" cy="16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27080" y="2158560"/>
            <a:ext cx="1735200" cy="17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40160" y="2741760"/>
            <a:ext cx="517320" cy="493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6400" y="1749600"/>
            <a:ext cx="347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54440" y="2411280"/>
            <a:ext cx="493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54440" y="3238560"/>
            <a:ext cx="493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24080" y="3238560"/>
            <a:ext cx="664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24080" y="2411280"/>
            <a:ext cx="664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47880" y="1749600"/>
            <a:ext cx="779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6640" y="2992320"/>
            <a:ext cx="3565440" cy="1730520"/>
          </a:xfrm>
          <a:prstGeom prst="triangle">
            <a:avLst>
              <a:gd name="adj" fmla="val 4770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00440" y="1252080"/>
            <a:ext cx="0" cy="577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62280" y="1744200"/>
            <a:ext cx="433440" cy="41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406520" y="1744200"/>
            <a:ext cx="433440" cy="41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299088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8840" y="299088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7800" y="3882960"/>
            <a:ext cx="63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65520" y="4181400"/>
            <a:ext cx="0" cy="692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60600" y="3836880"/>
            <a:ext cx="2968560" cy="1573200"/>
          </a:xfrm>
          <a:custGeom>
            <a:avLst/>
            <a:gdLst/>
            <a:ahLst/>
            <a:rect l="l" t="t" r="r" b="b"/>
            <a:pathLst>
              <a:path w="1870" h="991">
                <a:moveTo>
                  <a:pt x="0" y="556"/>
                </a:moveTo>
                <a:lnTo>
                  <a:pt x="618" y="0"/>
                </a:lnTo>
                <a:lnTo>
                  <a:pt x="890" y="209"/>
                </a:lnTo>
                <a:lnTo>
                  <a:pt x="1068" y="209"/>
                </a:lnTo>
                <a:lnTo>
                  <a:pt x="1260" y="19"/>
                </a:lnTo>
                <a:lnTo>
                  <a:pt x="1869" y="556"/>
                </a:lnTo>
                <a:lnTo>
                  <a:pt x="1335" y="903"/>
                </a:lnTo>
                <a:lnTo>
                  <a:pt x="890" y="990"/>
                </a:lnTo>
                <a:lnTo>
                  <a:pt x="445" y="816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657e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6480" y="3481560"/>
            <a:ext cx="0" cy="19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19400" y="5270400"/>
            <a:ext cx="0" cy="412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9560" y="4589640"/>
            <a:ext cx="2880000" cy="1095120"/>
          </a:xfrm>
          <a:custGeom>
            <a:avLst/>
            <a:gdLst/>
            <a:ahLst/>
            <a:rect l="l" t="t" r="r" b="b"/>
            <a:pathLst>
              <a:path w="1814" h="690">
                <a:moveTo>
                  <a:pt x="1514" y="0"/>
                </a:moveTo>
                <a:lnTo>
                  <a:pt x="1500" y="45"/>
                </a:lnTo>
                <a:lnTo>
                  <a:pt x="1479" y="88"/>
                </a:lnTo>
                <a:lnTo>
                  <a:pt x="1456" y="130"/>
                </a:lnTo>
                <a:lnTo>
                  <a:pt x="1430" y="169"/>
                </a:lnTo>
                <a:lnTo>
                  <a:pt x="1401" y="206"/>
                </a:lnTo>
                <a:lnTo>
                  <a:pt x="1366" y="241"/>
                </a:lnTo>
                <a:lnTo>
                  <a:pt x="1331" y="273"/>
                </a:lnTo>
                <a:lnTo>
                  <a:pt x="1294" y="302"/>
                </a:lnTo>
                <a:lnTo>
                  <a:pt x="1250" y="328"/>
                </a:lnTo>
                <a:lnTo>
                  <a:pt x="1207" y="352"/>
                </a:lnTo>
                <a:lnTo>
                  <a:pt x="1160" y="372"/>
                </a:lnTo>
                <a:lnTo>
                  <a:pt x="1114" y="389"/>
                </a:lnTo>
                <a:lnTo>
                  <a:pt x="1062" y="402"/>
                </a:lnTo>
                <a:lnTo>
                  <a:pt x="1012" y="412"/>
                </a:lnTo>
                <a:lnTo>
                  <a:pt x="960" y="417"/>
                </a:lnTo>
                <a:lnTo>
                  <a:pt x="905" y="420"/>
                </a:lnTo>
                <a:lnTo>
                  <a:pt x="853" y="417"/>
                </a:lnTo>
                <a:lnTo>
                  <a:pt x="801" y="412"/>
                </a:lnTo>
                <a:lnTo>
                  <a:pt x="748" y="402"/>
                </a:lnTo>
                <a:lnTo>
                  <a:pt x="699" y="389"/>
                </a:lnTo>
                <a:lnTo>
                  <a:pt x="653" y="372"/>
                </a:lnTo>
                <a:lnTo>
                  <a:pt x="606" y="352"/>
                </a:lnTo>
                <a:lnTo>
                  <a:pt x="563" y="328"/>
                </a:lnTo>
                <a:lnTo>
                  <a:pt x="519" y="302"/>
                </a:lnTo>
                <a:lnTo>
                  <a:pt x="482" y="273"/>
                </a:lnTo>
                <a:lnTo>
                  <a:pt x="447" y="241"/>
                </a:lnTo>
                <a:lnTo>
                  <a:pt x="412" y="206"/>
                </a:lnTo>
                <a:lnTo>
                  <a:pt x="383" y="169"/>
                </a:lnTo>
                <a:lnTo>
                  <a:pt x="357" y="130"/>
                </a:lnTo>
                <a:lnTo>
                  <a:pt x="334" y="88"/>
                </a:lnTo>
                <a:lnTo>
                  <a:pt x="313" y="45"/>
                </a:lnTo>
                <a:lnTo>
                  <a:pt x="299" y="0"/>
                </a:lnTo>
                <a:lnTo>
                  <a:pt x="0" y="66"/>
                </a:lnTo>
                <a:lnTo>
                  <a:pt x="23" y="134"/>
                </a:lnTo>
                <a:lnTo>
                  <a:pt x="52" y="198"/>
                </a:lnTo>
                <a:lnTo>
                  <a:pt x="87" y="259"/>
                </a:lnTo>
                <a:lnTo>
                  <a:pt x="125" y="318"/>
                </a:lnTo>
                <a:lnTo>
                  <a:pt x="171" y="373"/>
                </a:lnTo>
                <a:lnTo>
                  <a:pt x="220" y="424"/>
                </a:lnTo>
                <a:lnTo>
                  <a:pt x="273" y="471"/>
                </a:lnTo>
                <a:lnTo>
                  <a:pt x="331" y="514"/>
                </a:lnTo>
                <a:lnTo>
                  <a:pt x="363" y="534"/>
                </a:lnTo>
                <a:lnTo>
                  <a:pt x="395" y="554"/>
                </a:lnTo>
                <a:lnTo>
                  <a:pt x="426" y="572"/>
                </a:lnTo>
                <a:lnTo>
                  <a:pt x="458" y="588"/>
                </a:lnTo>
                <a:lnTo>
                  <a:pt x="493" y="604"/>
                </a:lnTo>
                <a:lnTo>
                  <a:pt x="528" y="618"/>
                </a:lnTo>
                <a:lnTo>
                  <a:pt x="563" y="631"/>
                </a:lnTo>
                <a:lnTo>
                  <a:pt x="598" y="643"/>
                </a:lnTo>
                <a:lnTo>
                  <a:pt x="635" y="654"/>
                </a:lnTo>
                <a:lnTo>
                  <a:pt x="673" y="662"/>
                </a:lnTo>
                <a:lnTo>
                  <a:pt x="711" y="670"/>
                </a:lnTo>
                <a:lnTo>
                  <a:pt x="748" y="677"/>
                </a:lnTo>
                <a:lnTo>
                  <a:pt x="786" y="682"/>
                </a:lnTo>
                <a:lnTo>
                  <a:pt x="827" y="686"/>
                </a:lnTo>
                <a:lnTo>
                  <a:pt x="864" y="688"/>
                </a:lnTo>
                <a:lnTo>
                  <a:pt x="905" y="689"/>
                </a:lnTo>
                <a:lnTo>
                  <a:pt x="946" y="688"/>
                </a:lnTo>
                <a:lnTo>
                  <a:pt x="986" y="686"/>
                </a:lnTo>
                <a:lnTo>
                  <a:pt x="1024" y="682"/>
                </a:lnTo>
                <a:lnTo>
                  <a:pt x="1062" y="677"/>
                </a:lnTo>
                <a:lnTo>
                  <a:pt x="1102" y="670"/>
                </a:lnTo>
                <a:lnTo>
                  <a:pt x="1140" y="662"/>
                </a:lnTo>
                <a:lnTo>
                  <a:pt x="1178" y="654"/>
                </a:lnTo>
                <a:lnTo>
                  <a:pt x="1213" y="643"/>
                </a:lnTo>
                <a:lnTo>
                  <a:pt x="1250" y="631"/>
                </a:lnTo>
                <a:lnTo>
                  <a:pt x="1285" y="618"/>
                </a:lnTo>
                <a:lnTo>
                  <a:pt x="1320" y="604"/>
                </a:lnTo>
                <a:lnTo>
                  <a:pt x="1352" y="588"/>
                </a:lnTo>
                <a:lnTo>
                  <a:pt x="1387" y="572"/>
                </a:lnTo>
                <a:lnTo>
                  <a:pt x="1418" y="554"/>
                </a:lnTo>
                <a:lnTo>
                  <a:pt x="1450" y="534"/>
                </a:lnTo>
                <a:lnTo>
                  <a:pt x="1479" y="514"/>
                </a:lnTo>
                <a:lnTo>
                  <a:pt x="1537" y="471"/>
                </a:lnTo>
                <a:lnTo>
                  <a:pt x="1593" y="424"/>
                </a:lnTo>
                <a:lnTo>
                  <a:pt x="1642" y="373"/>
                </a:lnTo>
                <a:lnTo>
                  <a:pt x="1685" y="318"/>
                </a:lnTo>
                <a:lnTo>
                  <a:pt x="1726" y="259"/>
                </a:lnTo>
                <a:lnTo>
                  <a:pt x="1761" y="198"/>
                </a:lnTo>
                <a:lnTo>
                  <a:pt x="1790" y="134"/>
                </a:lnTo>
                <a:lnTo>
                  <a:pt x="1813" y="66"/>
                </a:lnTo>
                <a:lnTo>
                  <a:pt x="1514" y="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b657e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5680" y="5272200"/>
            <a:ext cx="279360" cy="27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6720" y="4721400"/>
            <a:ext cx="279720" cy="272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25720" y="4997520"/>
            <a:ext cx="279720" cy="271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3400" y="4172040"/>
            <a:ext cx="279360" cy="27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584600"/>
            <a:ext cx="279360" cy="271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3480" y="4308480"/>
            <a:ext cx="279360" cy="2728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7880" y="4995720"/>
            <a:ext cx="846000" cy="41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976480" y="5132160"/>
            <a:ext cx="847800" cy="27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693520" y="4857840"/>
            <a:ext cx="14292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6480" y="4578120"/>
            <a:ext cx="565200" cy="68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60600" y="5270040"/>
            <a:ext cx="42552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080" y="3354480"/>
            <a:ext cx="5788080" cy="2739960"/>
          </a:xfrm>
          <a:prstGeom prst="triangle">
            <a:avLst>
              <a:gd name="adj" fmla="val 49560"/>
            </a:avLst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101840" y="5270040"/>
            <a:ext cx="56340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7880" y="4995720"/>
            <a:ext cx="1976400" cy="136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6480" y="527040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343400"/>
            <a:ext cx="1103400" cy="101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36800" y="4439880"/>
            <a:ext cx="704880" cy="27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833640"/>
            <a:ext cx="1068480" cy="474840"/>
          </a:xfrm>
          <a:custGeom>
            <a:avLst/>
            <a:gdLst/>
            <a:ahLst/>
            <a:rect l="l" t="t" r="r" b="b"/>
            <a:pathLst>
              <a:path w="673" h="299">
                <a:moveTo>
                  <a:pt x="482" y="12"/>
                </a:moveTo>
                <a:lnTo>
                  <a:pt x="482" y="17"/>
                </a:lnTo>
                <a:lnTo>
                  <a:pt x="482" y="21"/>
                </a:lnTo>
                <a:lnTo>
                  <a:pt x="481" y="33"/>
                </a:lnTo>
                <a:lnTo>
                  <a:pt x="479" y="45"/>
                </a:lnTo>
                <a:lnTo>
                  <a:pt x="476" y="57"/>
                </a:lnTo>
                <a:lnTo>
                  <a:pt x="471" y="68"/>
                </a:lnTo>
                <a:lnTo>
                  <a:pt x="465" y="79"/>
                </a:lnTo>
                <a:lnTo>
                  <a:pt x="458" y="89"/>
                </a:lnTo>
                <a:lnTo>
                  <a:pt x="449" y="98"/>
                </a:lnTo>
                <a:lnTo>
                  <a:pt x="439" y="107"/>
                </a:lnTo>
                <a:lnTo>
                  <a:pt x="429" y="114"/>
                </a:lnTo>
                <a:lnTo>
                  <a:pt x="418" y="122"/>
                </a:lnTo>
                <a:lnTo>
                  <a:pt x="406" y="128"/>
                </a:lnTo>
                <a:lnTo>
                  <a:pt x="393" y="133"/>
                </a:lnTo>
                <a:lnTo>
                  <a:pt x="379" y="137"/>
                </a:lnTo>
                <a:lnTo>
                  <a:pt x="365" y="140"/>
                </a:lnTo>
                <a:lnTo>
                  <a:pt x="351" y="142"/>
                </a:lnTo>
                <a:lnTo>
                  <a:pt x="336" y="142"/>
                </a:lnTo>
                <a:lnTo>
                  <a:pt x="321" y="142"/>
                </a:lnTo>
                <a:lnTo>
                  <a:pt x="307" y="140"/>
                </a:lnTo>
                <a:lnTo>
                  <a:pt x="293" y="137"/>
                </a:lnTo>
                <a:lnTo>
                  <a:pt x="279" y="133"/>
                </a:lnTo>
                <a:lnTo>
                  <a:pt x="266" y="128"/>
                </a:lnTo>
                <a:lnTo>
                  <a:pt x="254" y="122"/>
                </a:lnTo>
                <a:lnTo>
                  <a:pt x="243" y="114"/>
                </a:lnTo>
                <a:lnTo>
                  <a:pt x="233" y="107"/>
                </a:lnTo>
                <a:lnTo>
                  <a:pt x="223" y="98"/>
                </a:lnTo>
                <a:lnTo>
                  <a:pt x="214" y="89"/>
                </a:lnTo>
                <a:lnTo>
                  <a:pt x="207" y="79"/>
                </a:lnTo>
                <a:lnTo>
                  <a:pt x="201" y="68"/>
                </a:lnTo>
                <a:lnTo>
                  <a:pt x="196" y="57"/>
                </a:lnTo>
                <a:lnTo>
                  <a:pt x="193" y="45"/>
                </a:lnTo>
                <a:lnTo>
                  <a:pt x="191" y="33"/>
                </a:lnTo>
                <a:lnTo>
                  <a:pt x="190" y="21"/>
                </a:lnTo>
                <a:lnTo>
                  <a:pt x="190" y="17"/>
                </a:lnTo>
                <a:lnTo>
                  <a:pt x="190" y="12"/>
                </a:lnTo>
                <a:lnTo>
                  <a:pt x="1" y="0"/>
                </a:lnTo>
                <a:lnTo>
                  <a:pt x="0" y="11"/>
                </a:lnTo>
                <a:lnTo>
                  <a:pt x="0" y="21"/>
                </a:lnTo>
                <a:lnTo>
                  <a:pt x="2" y="49"/>
                </a:lnTo>
                <a:lnTo>
                  <a:pt x="6" y="77"/>
                </a:lnTo>
                <a:lnTo>
                  <a:pt x="15" y="103"/>
                </a:lnTo>
                <a:lnTo>
                  <a:pt x="26" y="129"/>
                </a:lnTo>
                <a:lnTo>
                  <a:pt x="41" y="153"/>
                </a:lnTo>
                <a:lnTo>
                  <a:pt x="57" y="176"/>
                </a:lnTo>
                <a:lnTo>
                  <a:pt x="76" y="197"/>
                </a:lnTo>
                <a:lnTo>
                  <a:pt x="98" y="217"/>
                </a:lnTo>
                <a:lnTo>
                  <a:pt x="110" y="226"/>
                </a:lnTo>
                <a:lnTo>
                  <a:pt x="122" y="235"/>
                </a:lnTo>
                <a:lnTo>
                  <a:pt x="135" y="243"/>
                </a:lnTo>
                <a:lnTo>
                  <a:pt x="148" y="251"/>
                </a:lnTo>
                <a:lnTo>
                  <a:pt x="162" y="258"/>
                </a:lnTo>
                <a:lnTo>
                  <a:pt x="176" y="265"/>
                </a:lnTo>
                <a:lnTo>
                  <a:pt x="190" y="271"/>
                </a:lnTo>
                <a:lnTo>
                  <a:pt x="205" y="277"/>
                </a:lnTo>
                <a:lnTo>
                  <a:pt x="220" y="281"/>
                </a:lnTo>
                <a:lnTo>
                  <a:pt x="236" y="286"/>
                </a:lnTo>
                <a:lnTo>
                  <a:pt x="252" y="289"/>
                </a:lnTo>
                <a:lnTo>
                  <a:pt x="268" y="292"/>
                </a:lnTo>
                <a:lnTo>
                  <a:pt x="284" y="295"/>
                </a:lnTo>
                <a:lnTo>
                  <a:pt x="302" y="297"/>
                </a:lnTo>
                <a:lnTo>
                  <a:pt x="319" y="298"/>
                </a:lnTo>
                <a:lnTo>
                  <a:pt x="336" y="298"/>
                </a:lnTo>
                <a:lnTo>
                  <a:pt x="353" y="298"/>
                </a:lnTo>
                <a:lnTo>
                  <a:pt x="370" y="297"/>
                </a:lnTo>
                <a:lnTo>
                  <a:pt x="388" y="295"/>
                </a:lnTo>
                <a:lnTo>
                  <a:pt x="404" y="292"/>
                </a:lnTo>
                <a:lnTo>
                  <a:pt x="420" y="289"/>
                </a:lnTo>
                <a:lnTo>
                  <a:pt x="436" y="286"/>
                </a:lnTo>
                <a:lnTo>
                  <a:pt x="452" y="281"/>
                </a:lnTo>
                <a:lnTo>
                  <a:pt x="467" y="277"/>
                </a:lnTo>
                <a:lnTo>
                  <a:pt x="482" y="271"/>
                </a:lnTo>
                <a:lnTo>
                  <a:pt x="496" y="265"/>
                </a:lnTo>
                <a:lnTo>
                  <a:pt x="510" y="258"/>
                </a:lnTo>
                <a:lnTo>
                  <a:pt x="524" y="251"/>
                </a:lnTo>
                <a:lnTo>
                  <a:pt x="537" y="243"/>
                </a:lnTo>
                <a:lnTo>
                  <a:pt x="550" y="235"/>
                </a:lnTo>
                <a:lnTo>
                  <a:pt x="562" y="226"/>
                </a:lnTo>
                <a:lnTo>
                  <a:pt x="574" y="217"/>
                </a:lnTo>
                <a:lnTo>
                  <a:pt x="595" y="197"/>
                </a:lnTo>
                <a:lnTo>
                  <a:pt x="615" y="176"/>
                </a:lnTo>
                <a:lnTo>
                  <a:pt x="632" y="153"/>
                </a:lnTo>
                <a:lnTo>
                  <a:pt x="646" y="129"/>
                </a:lnTo>
                <a:lnTo>
                  <a:pt x="657" y="103"/>
                </a:lnTo>
                <a:lnTo>
                  <a:pt x="665" y="77"/>
                </a:lnTo>
                <a:lnTo>
                  <a:pt x="670" y="49"/>
                </a:lnTo>
                <a:lnTo>
                  <a:pt x="672" y="21"/>
                </a:lnTo>
                <a:lnTo>
                  <a:pt x="672" y="11"/>
                </a:lnTo>
                <a:lnTo>
                  <a:pt x="671" y="0"/>
                </a:lnTo>
                <a:lnTo>
                  <a:pt x="482" y="12"/>
                </a:ln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85b7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406600" y="4444560"/>
            <a:ext cx="179280" cy="2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4200" y="4170240"/>
            <a:ext cx="282600" cy="13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58720" y="4165200"/>
            <a:ext cx="28260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990720"/>
            <a:ext cx="304812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авление Программного совет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седатель, секретариат, Президиум, почетные советники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Рабочие групп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еление город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т.ч. население, занятое в экономической и социальной сферах город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нешняя сред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Активные рабочие групп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бщественные импульс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заимодействие между участниками процесса по выработке общественных импульсо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1880" y="1068480"/>
            <a:ext cx="37764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2211480"/>
            <a:ext cx="377640" cy="225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b16a8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880" y="3963960"/>
            <a:ext cx="377640" cy="225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e7e4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880" y="2592360"/>
            <a:ext cx="377640" cy="2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b657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1880" y="3049560"/>
            <a:ext cx="377640" cy="22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18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7840" y="4344840"/>
            <a:ext cx="301680" cy="2732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876920"/>
            <a:ext cx="33336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257800"/>
            <a:ext cx="333360" cy="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редлагаемые наименования секторов Программного сове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охранение и развитие человеческого потенциа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еструктуризация экономики города и развитие экономических ресурс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тие среды проживания горожа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тие рынка товаров и услу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тие транспорта, складского хозяйства и связ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храна окружающей среды и развитие эколог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тие гражданского общества и местного самоуправл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енеральный план г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артнерство  “Программный Совет стратегического развития Екатеринбурга”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щее собр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обеспечивает широкое демократическое представительство всего городского сообщества в процессе стратегического план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авл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определяет основные направления работы Программного совета и организацию его финанс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спертный сов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осуществляет экспертизу программ и проектов в интересах городского со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кретариа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руководит повседневной деятельностью партнерства на основе бюджета 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ематические рабочие групп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организуют разработки проектов и ведут мониторинг выполнения программ по стратегическим направлен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Программного совета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60" y="684360"/>
            <a:ext cx="8966520" cy="576900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cc"/>
              </a:gs>
              <a:gs pos="100000">
                <a:srgbClr val="c8c8a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6640" y="687240"/>
            <a:ext cx="7888320" cy="508500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99"/>
              </a:gs>
              <a:gs pos="100000">
                <a:srgbClr val="c0c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5320" y="687240"/>
            <a:ext cx="7243920" cy="464976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cc"/>
              </a:gs>
              <a:gs pos="100000">
                <a:srgbClr val="d0d0a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2160" y="687240"/>
            <a:ext cx="6522840" cy="417672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99"/>
              </a:gs>
              <a:gs pos="100000">
                <a:srgbClr val="b8b86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73360" y="5762520"/>
            <a:ext cx="1817640" cy="674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1800" y="5762520"/>
            <a:ext cx="1879560" cy="67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73360" y="4867200"/>
            <a:ext cx="1754280" cy="469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4400" y="4867200"/>
            <a:ext cx="1854000" cy="469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44560" y="684360"/>
            <a:ext cx="5567400" cy="3566880"/>
          </a:xfrm>
          <a:prstGeom prst="triangle">
            <a:avLst>
              <a:gd name="adj" fmla="val 49991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1320" y="5735520"/>
            <a:ext cx="7535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 р о г р а м м н ы й   с о в е 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2640" y="6067440"/>
            <a:ext cx="113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9240" y="6080040"/>
            <a:ext cx="113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60760" y="6053040"/>
            <a:ext cx="168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96200" y="6067440"/>
            <a:ext cx="2124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щест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49280" y="5326200"/>
            <a:ext cx="6443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 е к р е т а р и а т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Техническое и организационное обеспе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6400" y="4890960"/>
            <a:ext cx="5262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 к с п е р т н ы е    с о в е т ы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экспертиза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85960" y="4249800"/>
            <a:ext cx="749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уководители стратегических направлений - 32 чел. (4 чел.* 8 направлени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утверждение методологии, разработка текстов стратегических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5000" y="674640"/>
            <a:ext cx="4662360" cy="2998800"/>
          </a:xfrm>
          <a:prstGeom prst="triangle">
            <a:avLst>
              <a:gd name="adj" fmla="val 49463"/>
            </a:avLst>
          </a:prstGeom>
          <a:gradFill rotWithShape="0">
            <a:gsLst>
              <a:gs pos="0">
                <a:srgbClr val="ffffcc"/>
              </a:gs>
              <a:gs pos="100000">
                <a:srgbClr val="d0d0a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84440" y="3738600"/>
            <a:ext cx="410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ОРДИНАЦИОННЫЙ СОВ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Координация деятель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3600" y="31798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02000" y="3178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4960" y="3178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03360" y="3316320"/>
            <a:ext cx="898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0240" y="3303720"/>
            <a:ext cx="1069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9400" y="3201840"/>
            <a:ext cx="1181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МИНИС-ТР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7560" y="3164040"/>
            <a:ext cx="1352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СТВЕН-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73280" y="2637000"/>
            <a:ext cx="4091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Утверждение проектов стратегических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87880" y="1228680"/>
            <a:ext cx="2484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79920" y="1785960"/>
            <a:ext cx="17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049480"/>
            <a:ext cx="1361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ЕДАТЕЛЬ ГОР. ДУ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5680" y="1859040"/>
            <a:ext cx="1249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И-ТЕЛЬ ФЕД. ОКР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8200" y="2062080"/>
            <a:ext cx="1576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ИТЕЛЬ ПРАВ.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86200" y="2662200"/>
            <a:ext cx="30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0720" y="1784520"/>
            <a:ext cx="0" cy="89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75200" y="177156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16120" y="3174840"/>
            <a:ext cx="386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хема формирования рабочих групп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0200" y="863640"/>
            <a:ext cx="80470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0d0a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ГРАММНЫЙ       СО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200" y="1320840"/>
            <a:ext cx="804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0800" y="1322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9600" y="1322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43800" y="1322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000" y="1322280"/>
            <a:ext cx="173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1520" y="132228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7800" y="13222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ЩЕСТ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35600" y="1322280"/>
            <a:ext cx="2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ДМИНИСТР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080" y="2614680"/>
            <a:ext cx="731520" cy="549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96960" y="1779120"/>
            <a:ext cx="1279440" cy="8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82800" y="1778040"/>
            <a:ext cx="1825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158560" y="1778040"/>
            <a:ext cx="82404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251080" y="1778040"/>
            <a:ext cx="182880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341440" y="1778040"/>
            <a:ext cx="283536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433240" y="1778040"/>
            <a:ext cx="38401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525760" y="1778040"/>
            <a:ext cx="484488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525760" y="1778040"/>
            <a:ext cx="594360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3880" y="2244600"/>
            <a:ext cx="4197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1920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1612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1304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11760" y="2602080"/>
            <a:ext cx="7300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0868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0560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02520" y="2602080"/>
            <a:ext cx="731880" cy="54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1b18d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20" y="4194000"/>
            <a:ext cx="36684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7320" y="4194000"/>
            <a:ext cx="36684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36680" y="4194000"/>
            <a:ext cx="36504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3880" y="4194000"/>
            <a:ext cx="36504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41800" y="4194000"/>
            <a:ext cx="45720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93960" y="417024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51080" y="4194000"/>
            <a:ext cx="365040" cy="36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8b89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12640" y="3189240"/>
            <a:ext cx="90720" cy="10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6960" y="3189240"/>
            <a:ext cx="27288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6960" y="3189240"/>
            <a:ext cx="82224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6960" y="3189240"/>
            <a:ext cx="127944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6960" y="3189240"/>
            <a:ext cx="173664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6960" y="3189240"/>
            <a:ext cx="2739960" cy="9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05360" y="3919680"/>
            <a:ext cx="4960800" cy="257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0c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57720" y="4079880"/>
            <a:ext cx="2200320" cy="49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едставитель Администрации 1 ч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70520" y="4067280"/>
            <a:ext cx="2049480" cy="49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едставитель общественности 1 ч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2120" y="4708440"/>
            <a:ext cx="2481120" cy="49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азработчики программ по договорам  4-5 ч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97320" y="5302080"/>
            <a:ext cx="2108160" cy="536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едставитель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ч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77000" y="5302080"/>
            <a:ext cx="1897200" cy="536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едставитель бизнеса 1 ч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4720" y="5945040"/>
            <a:ext cx="2481480" cy="4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митет по эконом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11760" y="3589200"/>
            <a:ext cx="502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ХЕМА  РАБОЧЕЙ  ГРУППЫ ( по направлению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91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Структура  Программного со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5257800"/>
            <a:ext cx="266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Екатеринбург – город комфортной социальной сре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506840"/>
            <a:ext cx="26668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«Город для души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693960"/>
            <a:ext cx="2666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Образование – основа развития, залог успех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549520"/>
            <a:ext cx="441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914400"/>
            <a:ext cx="4419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2894040"/>
            <a:ext cx="2666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Екатеринбург – здоровый гор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894040"/>
            <a:ext cx="175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Сохранение и развитие человеческого потенциал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2600" y="1600200"/>
            <a:ext cx="1059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83560" y="1689120"/>
            <a:ext cx="1049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ка (Анимица Е.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 (Смирнов В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63244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5316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289404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96160" y="290664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5316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36939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450684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52578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9172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369396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4532040" y="3412800"/>
            <a:ext cx="459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твеев М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5840" y="4506840"/>
            <a:ext cx="79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65840" y="5256360"/>
            <a:ext cx="799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46640" y="3691080"/>
            <a:ext cx="76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9600" y="449100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59600" y="525312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5184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5184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2960" y="2895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64440" y="44910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51840" y="525312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44910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92960" y="525312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1:21:45Z</dcterms:created>
  <dc:creator>Комитет по экономике</dc:creator>
  <dc:description/>
  <dc:language>en-US</dc:language>
  <cp:lastModifiedBy>EIST </cp:lastModifiedBy>
  <dcterms:modified xsi:type="dcterms:W3CDTF">2002-04-18T08:31:44Z</dcterms:modified>
  <cp:revision>133</cp:revision>
  <dc:subject/>
  <dc:title>Презентация PowerPoint</dc:title>
</cp:coreProperties>
</file>