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D123-FF1C-49E6-9C8D-2B2D029A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01D9-FAD5-4081-94BF-743C2A43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1439-16BF-4E1A-BD1B-9E42B0EB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C23E-C041-4EEC-9087-AD6CE4C3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C7D1-9390-4C80-924E-02FD2318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86DD-60A6-4399-B86B-40078148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61AB-0319-4EB5-AC1F-791D8D38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0BBF-060E-4E41-9256-7104EC86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4CDB-7F98-42B5-9081-10AEA4DD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F56E-FD89-4614-B842-F3A20B49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DB85-C096-49EB-9FE4-AEDFF42D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2263-334A-4A50-BC9C-949C82A4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A668-FDB8-4555-BF1D-DEE23CD1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D755-5E2C-44BA-AEDF-86B79B91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9096-47D2-48D0-A5F8-1CEBED4A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055A-D619-423A-BFC1-FEDF9F13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B9B2-512C-4FDD-94E5-3764743C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0FE2-1FC3-4ADB-BB2D-223FFE2B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AF80-4D06-4EAE-A066-786F807A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4375-FC17-45D8-87BA-B1D0AD0B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6695-BCA5-48B1-91F2-04170EB4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9D43-F37A-4BBE-8A0C-D49FB183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DC9F-D589-45BC-99D1-974D87DA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2CBF-AF0A-47BC-90ED-5A283995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CED3-FA39-40BD-9702-5D72EF38E7B3}" type="slidenum">
              <a:rPr b="0" lang="ru-R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0C5A-6C9F-45A1-855D-C10932C762E5}" type="slidenum">
              <a:rPr b="0" lang="ru-RU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Управление реализацией программ муниципального экономического развития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Форум «Стратегическое планирование в городах России - реальные результаты»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18 апреля 2002 г.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Impact"/>
              </a:rPr>
              <a:t>Как реализуется стратегический план?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Стратегический план реализуется в виде конкретных действий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ffcc"/>
                </a:solidFill>
                <a:latin typeface="Impact"/>
              </a:rPr>
              <a:t>Власти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ffcc"/>
                </a:solidFill>
                <a:latin typeface="Impact"/>
              </a:rPr>
              <a:t>Бизнеса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ffcc"/>
                </a:solidFill>
                <a:latin typeface="Impact"/>
              </a:rPr>
              <a:t>Некоммерческих организаций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ffcc"/>
                </a:solidFill>
                <a:latin typeface="Impact"/>
              </a:rPr>
              <a:t>Всех жителей города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Impact"/>
              </a:rPr>
              <a:t>Действия по реализации стратегического плана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Законодательные инициативы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Целевые программы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Проекты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Пилотные акции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Определение приоритетов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Impact"/>
              </a:rPr>
              <a:t>Подходы к реализации стратегического плана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Предвыборный подход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Административный подход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Проектный подход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Impact"/>
              </a:rPr>
              <a:t>Проект</a:t>
            </a: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 - это последовательность каких-либо действий, объединенных внутренней логикой, увязанных по ресурсам, срокам и исполнителям, и направленных на решение конкретных задач. Реализация проекта заключается в осуществлении этих действий и достижении основных результатов проекта, которые являются одной из основных его характеристик. Кроме этого проект характеризуется наличием самостоятельной системы управления и бюджетом.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Консенсус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00200" y="2514600"/>
            <a:ext cx="2971800" cy="22795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81480" y="2044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Формирование общего видения представителями ключевых городских сообществ стратегии развития города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cc"/>
                </a:solidFill>
                <a:latin typeface="Impact"/>
              </a:rPr>
              <a:t>Принцип разделения ответственности.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Институциональная база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Понимание необходимости стратегического развития всеми ключевыми сообществами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Готовность власти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Наличие инфраструктуры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Законодательство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cc"/>
                </a:solidFill>
                <a:latin typeface="Impact"/>
              </a:rPr>
              <a:t>Принцип: «Что пишу, то и подписываю»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629400" y="2590920"/>
            <a:ext cx="209700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Формирование механизма управления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Орган стратегического управления (наблюдательный совет)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Орган оперативного управления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Исполнительные органы (агентство по экономическому развитию)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Рабочие группы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Консультанты, эксперты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cc"/>
                </a:solidFill>
                <a:latin typeface="Impact"/>
              </a:rPr>
              <a:t>Принцип: децентрализация управления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Законодательная база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1649520" cy="2984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00040" y="20448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Impact"/>
              </a:rPr>
              <a:t>Наличие местных нормативно-правовых актов закрепляющих и  регламентирующих процесс стратегического планирования в городе.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spcBef>
                <a:spcPts val="55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Impact"/>
              </a:rPr>
              <a:t>Отработка и закрепление на муниципальном уровне механизмов экономического развития территорий.</a:t>
            </a:r>
            <a:endParaRPr b="0" lang="en-US" sz="2200" spc="-1" strike="noStrike">
              <a:solidFill>
                <a:srgbClr val="ffffff"/>
              </a:solidFill>
              <a:latin typeface="Impact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45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Impact"/>
              </a:rPr>
              <a:t>Принцип: Стратегическое планирование - это не случайная инициатива, а обязательный элемент муниципального управления.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Вовлечение частного сектора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181480" y="2313000"/>
            <a:ext cx="3810240" cy="3578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Обращайтесь к аудитории, которая готова вас слушать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Стратегический план информирует, а не убеждает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Политические факторы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19320" y="2649600"/>
            <a:ext cx="2971800" cy="22654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7960" y="20448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Impact"/>
              </a:rPr>
              <a:t>Изменения в органах представительной и исполнительной власти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Impact"/>
              </a:rPr>
              <a:t>Политическая борьба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Мониторинг и оценка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Индикаторы выполнения стратегического плана и отдельных проектов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Показатели реализации стратегического плана в целом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cc"/>
                </a:solidFill>
                <a:latin typeface="Impact"/>
              </a:rPr>
              <a:t>Принцип: задачи мониторинга и оценки должны ставиться исходя из миссии стратегического плана, а не из миссии контролирующих органов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Вместо предисловия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Impact"/>
              </a:rPr>
              <a:t>«…никакие программы ни в Советском Союзе, ни в России не выполнялись - начиная с программы КПСС и кончая программой финансовой стабилизации, закончившейся 17 августа 1998 г…»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Impact"/>
              </a:rPr>
              <a:t>	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«Коммерсант-Деньги», 2000 г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Корректировка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733560" y="20448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Impact"/>
              </a:rPr>
              <a:t>Комплексность стратегического плана/ наличие институциональной базы.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Impact"/>
              </a:rPr>
              <a:t>Идеология (желание)/ Рынок (возможности).</a:t>
            </a:r>
            <a:endParaRPr b="0" lang="en-US" sz="26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cc"/>
                </a:solidFill>
                <a:latin typeface="Impact"/>
              </a:rPr>
              <a:t>Принцип: «Основа благополучия всего сущего - следовать тому, что делается, и не стремиться определить исход дела заранее». (Лао-цзы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219320" y="2700360"/>
            <a:ext cx="251460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Impact"/>
              </a:rPr>
              <a:t>Ресурсы для реализации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Кадры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Финансы (инвестиции)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Преимущества (риски)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Собственность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Инфраструктура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Impact"/>
              </a:rPr>
              <a:t>ВРЕМЯ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Основные условия успеха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219320" y="2436840"/>
            <a:ext cx="1676160" cy="23526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00040" y="20448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Наличие качественного стратегического плана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Поддержка реализации стратегического плана всеми уровнями власти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Наличие необходимых ресурсов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Поддержка стратегического плана городским сообществом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Эффективный МЕНЕДЖМЕНТ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Вместо послесловия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Натиск, – сказал он, – притом быстрота, снисходительность и притом строгость. И притом благоразумная твердость. Вот, милостивые государи, та цель или, точнее сказать, те пять целей, которых я, с Божьею помощью, надеюсь достигнуть при посредстве некоторых административных мероприятий, составляющих сущность или, лучше сказать, ядро обдуманного мною плана кампании!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Impact"/>
              </a:rPr>
              <a:t>М. Салтыков-Щедрин, “История одного города”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Impact"/>
              </a:rPr>
              <a:t>Мотивы разработки стратегического плана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Политические – достижение политических целей лидеров городского сообщества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Экономические – получение дополнительных ресурсов для финансирования городского хозяйства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Управленческие – использование программных подходов для управления городом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ccffff"/>
                </a:solidFill>
                <a:latin typeface="Impact"/>
              </a:rPr>
              <a:t>«Идеальный» стратегический план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Обязательное наличие всех трех мотивов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cc"/>
                </a:solidFill>
                <a:latin typeface="Impact"/>
              </a:rPr>
              <a:t>Принятие решений – требует наличия политической воли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cc"/>
                </a:solidFill>
                <a:latin typeface="Impact"/>
              </a:rPr>
              <a:t>Реализация решений – требует объединения усилий различных городских сообществ, ресурсы становятся объединяющим мотивом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cc"/>
                </a:solidFill>
                <a:latin typeface="Impact"/>
              </a:rPr>
              <a:t>Достижение результатов – требует грамотного управления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Стратегический план - это ..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81480" y="2044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Impact"/>
              </a:rPr>
              <a:t>… </a:t>
            </a:r>
            <a:r>
              <a:rPr b="0" lang="ru-RU" sz="2800" spc="-1" strike="noStrike">
                <a:solidFill>
                  <a:srgbClr val="ffffff"/>
                </a:solidFill>
                <a:latin typeface="Impact"/>
              </a:rPr>
              <a:t>механизм согласования интересов различных групп в целях экономического развития города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19320" y="2744640"/>
            <a:ext cx="380988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Анкета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1352520" cy="29084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29000" y="204480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Impact"/>
              </a:rPr>
              <a:t>Выборка: более 100 городов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Impact"/>
              </a:rPr>
              <a:t>Ответы: 41 анкета из 35 городов.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4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Impact"/>
              </a:rPr>
              <a:t>Из них 25 расположен в европейской части России, 6 – в Сибири, 2 – на Дальнем востоке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Impact"/>
              </a:rPr>
              <a:t>В ближайшие полгода 43,9% городов планируют разработать систему управления программой (проектами), включая необходимую нормативно-правовую базу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Impact"/>
              </a:rPr>
              <a:t>Кто осуществляет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ccffff"/>
                </a:solidFill>
                <a:latin typeface="Impact"/>
              </a:rPr>
              <a:t>управление программой  экономического развития?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214280" y="2048040"/>
          <a:ext cx="7775640" cy="41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048040"/>
                    <a:ext cx="7775640" cy="41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Impact"/>
              </a:rPr>
              <a:t>Какие задачи необходимо решить для получения эффекта от реализации программы?</a:t>
            </a: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352520" y="2082960"/>
          <a:ext cx="7505640" cy="403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2082960"/>
                    <a:ext cx="7505640" cy="40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Impact"/>
              </a:rPr>
              <a:t>Что такое реализация стратегического плана?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Стратегическое планирование - это процесс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Реализация стратегического плана - </a:t>
            </a:r>
            <a:r>
              <a:rPr b="0" lang="ru-RU" sz="3200" spc="-1" strike="noStrike">
                <a:solidFill>
                  <a:srgbClr val="ff0000"/>
                </a:solidFill>
                <a:latin typeface="Impact"/>
              </a:rPr>
              <a:t>управление</a:t>
            </a:r>
            <a:r>
              <a:rPr b="0" lang="ru-RU" sz="3200" spc="-1" strike="noStrike">
                <a:solidFill>
                  <a:srgbClr val="ffffff"/>
                </a:solidFill>
                <a:latin typeface="Impact"/>
              </a:rPr>
              <a:t> этим процессом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11:22:50Z</dcterms:created>
  <dc:creator>Яновский А.Э.</dc:creator>
  <dc:description/>
  <dc:language>en-US</dc:language>
  <cp:lastModifiedBy>Яновский А.Э.</cp:lastModifiedBy>
  <dcterms:modified xsi:type="dcterms:W3CDTF">2002-04-17T05:56:06Z</dcterms:modified>
  <cp:revision>14</cp:revision>
  <dc:subject/>
  <dc:title>Стратегический план: ожидания и реальность</dc:title>
</cp:coreProperties>
</file>