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9E0-DD10-4A97-AD0B-A045FE15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6AC-C0AC-44B3-B951-CAC5528C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C5F-0D2E-4CB4-9F70-39F41E7C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F65-826C-4A48-BABC-AA171F13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24C-9E05-493F-874A-B3F5EAE3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5C0-61CC-460E-AB24-C40BCBC1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DF0-4302-4DBD-97B3-13199794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29E-2B77-4C94-9DBB-E3B09F9D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3EA-76A1-4815-89D5-27A03A00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83E-9B55-4AE1-B45A-520474A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F37-12DA-4029-A8F0-F36D2DBE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388-0F52-4C8D-A89A-72867BB7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C4CA-C3B9-4D99-93DC-8CA5679A7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Stylistic SF"/>
              </a:rPr>
              <a:t>Социальные инновации в стратегическом планировании: опыт г. Хабаровс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551628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Stylistic SF"/>
              </a:rPr>
              <a:t>Быстрицкий С.П.,   Заусаев В.К., Воронцова Л.С.,   Анисимов А.С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Характеристика социально-экономической активности населения г. Хабаровска, % от числа опроше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268280"/>
          <a:ext cx="9144000" cy="539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91440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Приоритетные направления повышения качества жизни в г. Хабаровске по возрастным групп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125360"/>
          <a:ext cx="8640720" cy="5607360"/>
        </p:xfrm>
        <a:graphic>
          <a:graphicData uri="http://schemas.openxmlformats.org/drawingml/2006/table">
            <a:tbl>
              <a:tblPr/>
              <a:tblGrid>
                <a:gridCol w="1655640"/>
                <a:gridCol w="4897440"/>
                <a:gridCol w="2087640"/>
              </a:tblGrid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ровень приоритетности направл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направления разработки проектов и программ развития города по разделу повышения качества жи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ные группы, л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 </a:t>
                      </a:r>
                      <a:r>
                        <a:rPr b="1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нг (высший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уровня жи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ительство доступного жиль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; 34-54 и вы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I </a:t>
                      </a:r>
                      <a:r>
                        <a:rPr b="1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н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уровня преступ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новых производств, сокращение безработицы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4; 34-54 и вы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II </a:t>
                      </a:r>
                      <a:r>
                        <a:rPr b="1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н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ижение уровня преступ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новых производств, сокращение безработицы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4; 34-54 и вы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н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качества услуг ЖК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ерживание роста тарифов на услуги ЖК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и вы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; 25-34; 34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 </a:t>
                      </a:r>
                      <a:r>
                        <a:rPr b="1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н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экологической обстанов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ответственности власти за своевременность и полноту рассмотрения жалоб насе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устройство город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54 и вы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I </a:t>
                      </a:r>
                      <a:r>
                        <a:rPr b="1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н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истемы профессионального 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качества городских  доро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54 и вы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; 25-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II </a:t>
                      </a:r>
                      <a:r>
                        <a:rPr b="1" lang="ru-RU" sz="13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н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новых парков и пляж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орядочение элитного        строитель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; 25-34; 55 и вы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Распределение населения г. Хабаровска по уровню дох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981000"/>
          <a:ext cx="8362800" cy="547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81000"/>
                    <a:ext cx="8362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Структура населения г. Хабаровска  по производственно-статусной принадлеж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268280"/>
          <a:ext cx="8229600" cy="511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268280"/>
                    <a:ext cx="82296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 Оценка величины функциональных целевых групп населения г. Хабаровс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3240" y="1197000"/>
          <a:ext cx="9229680" cy="549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" y="1197000"/>
                    <a:ext cx="922968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 Количество общественных организаций г. Хабаровска по направлениям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640" y="1052640"/>
          <a:ext cx="9080280" cy="549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40" y="1052640"/>
                    <a:ext cx="908028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0:06:44Z</dcterms:created>
  <dc:creator>Халиуллина З.А.</dc:creator>
  <dc:description/>
  <dc:language>en-US</dc:language>
  <cp:lastModifiedBy>Халиуллина З.А.</cp:lastModifiedBy>
  <dcterms:modified xsi:type="dcterms:W3CDTF">2005-10-10T00:44:10Z</dcterms:modified>
  <cp:revision>17</cp:revision>
  <dc:subject/>
  <dc:title>Слайд 1</dc:title>
</cp:coreProperties>
</file>