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1E4-9DE5-42F3-88D7-9909E31D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CE7-8367-4425-8979-0D285776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579-A2D7-4B18-9037-609C9A14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EDD-490B-4D78-AB9F-84218779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367-B23C-4947-AE2D-5E221048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6ED-F779-4580-B492-F396B7EF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0C6-4044-4817-864F-244A2781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5BD-4CAC-4261-B454-601ED4C8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1AC-D055-4F5D-AC20-E4A93B33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42B-03E0-4548-B541-D1A0E8EB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47A-D9BF-45D4-88C7-D73E569F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E19-B6AB-49E9-88B8-E1BB4655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9D70-371E-45EC-B5B9-CA79C5E57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4437000"/>
            <a:ext cx="716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Жунда Н.Б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, к.э.н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заместитель директора Ресурсного центра по стратегическому планированию при МЦСЭИ Леонтьевский цен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429000"/>
            <a:ext cx="83757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становочный докла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292640"/>
            <a:ext cx="49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04640"/>
            <a:ext cx="83757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Круглый сто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МЕСТНАЯ ЭКОНОМИЧЕСКАЯ ПОЛИТИКА В УСЛОВИЯХ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РЕФОРМЫ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115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Приоритеты экономической поли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268280"/>
          <a:ext cx="5770440" cy="26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577044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59280" y="4087800"/>
          <a:ext cx="6084720" cy="277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9280" y="4087800"/>
                    <a:ext cx="608472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50920" y="4653000"/>
            <a:ext cx="34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риентация экономической политики на виды бизне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052640"/>
            <a:ext cx="34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траслевые приоритеты экономической поли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71640" y="115920"/>
            <a:ext cx="7619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Инструменты экономической поли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907920"/>
            <a:ext cx="77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ибольшее значение в рамках реализации местной экономической политики уделялось решению следующих зада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1337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привлечение внешних инвестиций (68 % МО указали этот пункт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удержание существующего бизнеса на территории МО (52%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поощрение создания новых компаний (45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улучшение местного хозяйственного климата в целом (39%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% МО уделяют особое внимание решению конкретных проблем в конкретном районе города, как например, оживление пришедшего в упадок городского центра, торговой зоны или микрорайона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1640" y="115920"/>
            <a:ext cx="7619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Инструменты экономической поли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907920"/>
            <a:ext cx="77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мнению респондентов возрастет значимость следующих инструментов местной экономической политик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2133720"/>
            <a:ext cx="8459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ганизация удобного интерфейса для общения бизнеса и в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здание агентства развития, агентства по привлечению инвести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работка и реализация комплексных программ маркетинга горо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ведение градостроительного зонирования, межевания, выделение зон, предназначенных для хозяй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наиболее критичных звеньев инженерной инфраструктуры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Реализация инфраструктурных проектов, открывающих возможности для развития перспективных направлени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лексное благоустройство определенных территорий, благоприятных для освоения частным бизнесом (торговые площади, логистические зоны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71640" y="115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Пробл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390680"/>
            <a:ext cx="845964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блема кад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блема разграничения объектов муниципальной собственности, владения и распоряжения муниципальным имуществ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блема распределения предметов ведения и полномочий между уровн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блема отсутствия методических рекомендаций по разработке программ и планов социально-экономического развития, и их увязке с циклами бюджетного планирования, а также связанная с этим проблема муниципальной статистики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0920" y="2276640"/>
            <a:ext cx="64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71640" y="115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Этапы реформирования М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836640"/>
            <a:ext cx="8425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вый эта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прель 199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кон СССР «Об общих началах местного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амоуправления и местного хозяйства в СССР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юль 199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кон РСФСР «О местном самоуправ­лении в РСФСР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торой эта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екабрь 199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нятие Конституции 1993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вгуст 199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кон РФ «Об общих принципах организац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естного самоуправления в Российской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едерации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ктябрь 1999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каз Президента «Основные положен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осударственной политики в области развит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естного самоуправления в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ретий эта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ктября 200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кон «Об общих принципах организации местного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амоуправления в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115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Последстви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436760"/>
            <a:ext cx="81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дминистратив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Территориальная орган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Организационные осн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Финансов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Источники доходов местных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Выравнивание бюджетной обеспеченности муниципальны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разов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Экономическ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Владение и распоряжение имуществ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Разграничение объектов муницип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Хозяйственная деятельность органов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15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Вопросы для обсу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06560" y="1197000"/>
            <a:ext cx="788652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дминистративные, финансовые и экономические последствия реформы МС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граничения и новые возможности для проведения экономической политики на муниципальном уров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личия в целях и инструментах местной экономической политики между разными типами муниципальных образований – городской округ, городское поселение, сельское поселение, муниципальный райо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имулы к проведению эффективной экономической полит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Эффективность инструментов реализации местной экономической политики и приоритеты в изменение приоритетов в их использовании в связи с реформ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Использование инструментов местной экономической политики в рамках межмуниципального сотрудни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115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Опрос муниципальных образ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90792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лючевые вопро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162864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Каким образом происходит формирование экономической политики (кто принимает участие, с какой регулярностью проходят заседания, уровень активности различных участников и т.п.) и как она оформляется в виде документов (вид документов, горизонт планирования и т.п.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Каково содержание (целевая направленность, используемые инструменты) и эффективность экономической полити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Каковы последствия реформирования местного самоуправления (выявление проблем и возможностей для проведения местной экономической политики, изменений в приоритетах использования тех или иных инструментов и т.п.)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115920"/>
            <a:ext cx="8459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Характеристика муниципальных образ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90792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руппировка респондентов по доле городского на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9337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 доле собственных доходов в бюдж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87280" y="1700280"/>
          <a:ext cx="6076800" cy="2139840"/>
        </p:xfrm>
        <a:graphic>
          <a:graphicData uri="http://schemas.openxmlformats.org/drawingml/2006/table">
            <a:tbl>
              <a:tblPr/>
              <a:tblGrid>
                <a:gridCol w="1897200"/>
                <a:gridCol w="2057400"/>
                <a:gridCol w="2122200"/>
              </a:tblGrid>
              <a:tr h="687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оля городского насе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ол-во респонден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дельный вес от общего чис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-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lt;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187280" y="4365720"/>
          <a:ext cx="6075360" cy="2232000"/>
        </p:xfrm>
        <a:graphic>
          <a:graphicData uri="http://schemas.openxmlformats.org/drawingml/2006/table">
            <a:tbl>
              <a:tblPr/>
              <a:tblGrid>
                <a:gridCol w="2354400"/>
                <a:gridCol w="1676160"/>
                <a:gridCol w="2044800"/>
              </a:tblGrid>
              <a:tr h="489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оля собственных доходов бюдж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ол-во респонден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Удельный вес от общего чис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-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0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-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lt;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,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ет дан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,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1640" y="115920"/>
            <a:ext cx="7619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Инструменты экономической поли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907920"/>
            <a:ext cx="77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иболее популя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39068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Предоставление налоговых льгот (84,8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Создание возможностей для общения бизнеса и власти (83,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Консультирование субъектов предпринимательства (81,8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Льготы по аренде помещений (80,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Развитие информационных услуг для предпринимательства (75,8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Предоставление муниципальных гарантий (75,8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2560" y="317664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именее популя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364500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Реализация комплексных программ маркетинга город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здание и продвижение инвестиционного имиджа города (28,8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Строительство или реконструкция помещений для продажи ил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оставления в аренду для организации производства (24,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одготовка и инженерное обустройство определенных земельных участков для передачи застройщика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22,7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Организация бизнес-инкубаторов, технопарков для предприятий (22,7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Совместное продвижением товаров и  услуг под единой торгов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ркой, содействие в маркетинге продукции (21,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Создание агентств городского развития, агентств по привлечению инвестиций (7,6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71640" y="115920"/>
            <a:ext cx="8172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Препятствия для экономической поли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26920" y="1751040"/>
          <a:ext cx="7453440" cy="376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751040"/>
                    <a:ext cx="745344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41400"/>
            <a:ext cx="609480" cy="579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115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nta"/>
              </a:rPr>
              <a:t>Участники проце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125360"/>
          <a:ext cx="5651640" cy="257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25360"/>
                    <a:ext cx="5651640" cy="25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987640" y="3990960"/>
          <a:ext cx="5878440" cy="267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3990960"/>
                    <a:ext cx="587844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508720" y="981000"/>
            <a:ext cx="34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остав постоянно действующих экспертных/консультативных орга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653000"/>
            <a:ext cx="34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Участие крупного, среднего и малого бизне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0:00:59Z</dcterms:created>
  <dc:creator>Sharov Vladimir</dc:creator>
  <dc:description/>
  <dc:language>en-US</dc:language>
  <cp:lastModifiedBy>Жихаревич</cp:lastModifiedBy>
  <dcterms:modified xsi:type="dcterms:W3CDTF">2005-10-21T08:00:36Z</dcterms:modified>
  <cp:revision>709</cp:revision>
  <dc:subject/>
  <dc:title>Презентация PowerPoint</dc:title>
</cp:coreProperties>
</file>